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C2DBB-278E-484C-B87F-8D213CAFA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51DB1-6EA5-4811-9301-69D72EE96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7BE54-8D16-4FE0-81AB-765CBFD12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89DC1-E698-4ACC-8F37-FEA4E1C47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9655C-606C-49A1-B8F8-8AADA0D13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A749E-547A-408F-B470-16DBD6E2D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E8E1F-24A8-41E5-9555-2F33E8A1E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3984D-FB95-4791-89D5-ACC201AF9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9835C-3A23-4DA6-8A59-7470B2BD1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CC2DF-52E6-44C5-901B-F0809DC68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7A85B-2DE7-4E9F-90F7-3CA879699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621B2-3E37-4ECC-A755-006D29E7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8C665-D850-4A35-940E-DB3333319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40511-19FF-4595-BE19-CFBE31298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2F7EC-D3F1-483F-84A2-3FD32E76E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7F56E-D09B-41E2-85E7-A2C9E2A92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60ED4-E8B4-43C6-A6D7-F5A644408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8FA3-7DA7-4949-8272-4AD1EC18F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ECBF6-3542-4796-80B0-ED8B4484F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A1893-A8F4-4BCA-9189-1431B710C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AC70-7A29-4402-85E0-D6B00D0DF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5D171-EEAD-4E4C-B95B-A185AFD01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85AF-2CB0-4CC2-B691-54A7EA49B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1EA6-1DF6-496B-9E3F-936C1D157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F9DE-5D7A-4FF0-AE5E-FD5E4883BA7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7C94-F25A-467A-B5A1-DA69DBA1A9A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8  – The Masterful Mind</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86400" y="228600"/>
            <a:ext cx="3371760" cy="2251080"/>
          </a:xfrm>
          <a:prstGeom prst="rect">
            <a:avLst/>
          </a:prstGeom>
          <a:ln w="0">
            <a:noFill/>
          </a:ln>
        </p:spPr>
      </p:pic>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rfect Golf Shot</a:t>
            </a:r>
            <a:endParaRPr b="0" lang="en-US" sz="4400" spc="-1" strike="noStrike">
              <a:solidFill>
                <a:srgbClr val="333399"/>
              </a:solidFill>
              <a:latin typeface="Tahoma"/>
            </a:endParaRPr>
          </a:p>
        </p:txBody>
      </p:sp>
      <p:sp>
        <p:nvSpPr>
          <p:cNvPr id="119" name="PlaceHolder 2"/>
          <p:cNvSpPr>
            <a:spLocks noGrp="1"/>
          </p:cNvSpPr>
          <p:nvPr>
            <p:ph/>
          </p:nvPr>
        </p:nvSpPr>
        <p:spPr>
          <a:xfrm>
            <a:off x="533520" y="22096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bash” the ball.</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drop out” or run away from the situ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select the right club, rehearse the trajectory and shot in your mind, then calmly hit the ball just where you want i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mastery is like golf. Practicing situations over and over until we do not fear them but can move through them with poise and power.</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stery Is Possible</a:t>
            </a:r>
            <a:endParaRPr b="0" lang="en-US" sz="4400" spc="-1" strike="noStrike">
              <a:solidFill>
                <a:srgbClr val="333399"/>
              </a:solidFill>
              <a:latin typeface="Tahoma"/>
            </a:endParaRPr>
          </a:p>
        </p:txBody>
      </p:sp>
      <p:sp>
        <p:nvSpPr>
          <p:cNvPr id="12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tery is not some elusive state like “sinless perfec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tery is a daily, practical emotional skill that you can practice and use in thousands of w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it in action every da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improve visibly in a few weeks of practic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lready have the skill within you.</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lephone</a:t>
            </a:r>
            <a:endParaRPr b="0" lang="en-US" sz="4400" spc="-1" strike="noStrike">
              <a:solidFill>
                <a:srgbClr val="333399"/>
              </a:solidFill>
              <a:latin typeface="Tahoma"/>
            </a:endParaRPr>
          </a:p>
        </p:txBody>
      </p:sp>
      <p:sp>
        <p:nvSpPr>
          <p:cNvPr id="123" name="PlaceHolder 2"/>
          <p:cNvSpPr>
            <a:spLocks noGrp="1"/>
          </p:cNvSpPr>
          <p:nvPr>
            <p:ph/>
          </p:nvPr>
        </p:nvSpPr>
        <p:spPr>
          <a:xfrm>
            <a:off x="380880" y="2438280"/>
            <a:ext cx="7925040" cy="3657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you are having an argument, a real shouting match, you are furious and your face is red and you are thumping the tab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the telephone rings and you pick it up.</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you do so you stop shouting, you become polite, you say “Good morning, how can I help you” e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have switched from “fight/flight” to self-mastery in a few second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did this because you knew it was necessa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ed Button</a:t>
            </a:r>
            <a:endParaRPr b="0" lang="en-US" sz="4400" spc="-1" strike="noStrike">
              <a:solidFill>
                <a:srgbClr val="333399"/>
              </a:solidFill>
              <a:latin typeface="Tahoma"/>
            </a:endParaRPr>
          </a:p>
        </p:txBody>
      </p:sp>
      <p:sp>
        <p:nvSpPr>
          <p:cNvPr id="125" name="PlaceHolder 2"/>
          <p:cNvSpPr>
            <a:spLocks noGrp="1"/>
          </p:cNvSpPr>
          <p:nvPr>
            <p:ph/>
          </p:nvPr>
        </p:nvSpPr>
        <p:spPr>
          <a:xfrm>
            <a:off x="380520" y="2133360"/>
            <a:ext cx="8077320" cy="4343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rains in Australia there is a big red Emergency button behind Plexiglas.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reak the glass and press the button the train will come to a stop.</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lso have a “red button” that can stop the “train” of your fight / flight response.</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picked up the telephone and became nice you chose to press “the red button” and stop your adrenaline filled reaction.</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need to become aware of your “red button” and how to use it to remain calm and masterful in all situation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2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y deserve my ang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I cannot help running awa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can I help it if I am surrounded by turkey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suddenly comes upon me and I cannot do anything about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feels so much better to “just let them have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else will stupid people lear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s my nerves, I am fearful by natur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reat is so much saf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f the above are LIES that you have believe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nting The Cost…</a:t>
            </a:r>
            <a:endParaRPr b="0" lang="en-US" sz="4400" spc="-1" strike="noStrike">
              <a:solidFill>
                <a:srgbClr val="333399"/>
              </a:solidFill>
              <a:latin typeface="Tahoma"/>
            </a:endParaRPr>
          </a:p>
        </p:txBody>
      </p:sp>
      <p:sp>
        <p:nvSpPr>
          <p:cNvPr id="12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uch have you </a:t>
            </a:r>
            <a:r>
              <a:rPr b="0" lang="en-US" sz="3200" spc="-1" strike="noStrike">
                <a:solidFill>
                  <a:srgbClr val="333399"/>
                </a:solidFill>
                <a:latin typeface="Tahoma"/>
              </a:rPr>
              <a:t>lost</a:t>
            </a:r>
            <a:r>
              <a:rPr b="0" lang="en-US" sz="3200" spc="-1" strike="noStrike">
                <a:solidFill>
                  <a:srgbClr val="000000"/>
                </a:solidFill>
                <a:latin typeface="Tahoma"/>
              </a:rPr>
              <a:t> by blowing up, running away, resigning, writing angry letters, avoiding situations you should face, being fearful etc?</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instead you had mastered these situations where would you be toda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giving into your adrenalin been worth it?</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ind Gives Victory</a:t>
            </a:r>
            <a:endParaRPr b="0" lang="en-US" sz="4400" spc="-1" strike="noStrike">
              <a:solidFill>
                <a:srgbClr val="333399"/>
              </a:solidFill>
              <a:latin typeface="Tahoma"/>
            </a:endParaRPr>
          </a:p>
        </p:txBody>
      </p:sp>
      <p:sp>
        <p:nvSpPr>
          <p:cNvPr id="131" name="PlaceHolder 2"/>
          <p:cNvSpPr>
            <a:spLocks noGrp="1"/>
          </p:cNvSpPr>
          <p:nvPr>
            <p:ph/>
          </p:nvPr>
        </p:nvSpPr>
        <p:spPr>
          <a:xfrm>
            <a:off x="457200" y="2209680"/>
            <a:ext cx="7772400" cy="3541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need to switch ON the Spirit-filled min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need to switch OFF the adrenalin-filled responses of the fles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focus your mind/attention on your rage, your anger, your fears or your feelings of being slighted you will keep activating the fight-flight respon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reach for the Red Button and ask God the Holy Spirit to take control of your mind and focus your attention on things above you will find peace , calm and self-maste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nding In Line</a:t>
            </a:r>
            <a:endParaRPr b="0" lang="en-US" sz="4400" spc="-1" strike="noStrike">
              <a:solidFill>
                <a:srgbClr val="333399"/>
              </a:solidFill>
              <a:latin typeface="Tahoma"/>
            </a:endParaRPr>
          </a:p>
        </p:txBody>
      </p:sp>
      <p:sp>
        <p:nvSpPr>
          <p:cNvPr id="133"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are standing in a long line to pay a bill at a bank.</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have been there for half an hour, the line is still long and the tellers do not seem very fast or very bright. You are beginning to get really frustrate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focus on your irritation and the tellers’ inefficiency and get progressively more upse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you can ask the Holy Spirit to fill you and take charge of the situation. This will often flood you with feelings of calm.</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your attention off the irrit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cus your attention on God.</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ng “The Mind” </a:t>
            </a:r>
            <a:endParaRPr b="0" lang="en-US" sz="4400" spc="-1" strike="noStrike">
              <a:solidFill>
                <a:srgbClr val="333399"/>
              </a:solidFill>
              <a:latin typeface="Tahoma"/>
            </a:endParaRPr>
          </a:p>
        </p:txBody>
      </p:sp>
      <p:sp>
        <p:nvSpPr>
          <p:cNvPr id="135" name="PlaceHolder 2"/>
          <p:cNvSpPr>
            <a:spLocks noGrp="1"/>
          </p:cNvSpPr>
          <p:nvPr>
            <p:ph/>
          </p:nvPr>
        </p:nvSpPr>
        <p:spPr>
          <a:xfrm>
            <a:off x="456840" y="2133720"/>
            <a:ext cx="792468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y the Mind Paul does not mean various individual thoughts or mind as intellectual activity or a set of intellectual abstractions or the “Sub-conscious” or the dream worl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her mind is the mental framework of the person. For those of you who enjoy Greek the </a:t>
            </a:r>
            <a:r>
              <a:rPr b="1" lang="en-US" sz="2000" spc="-1" strike="noStrike">
                <a:solidFill>
                  <a:srgbClr val="333399"/>
                </a:solidFill>
                <a:latin typeface="Tahoma"/>
              </a:rPr>
              <a:t>phren word family</a:t>
            </a:r>
            <a:r>
              <a:rPr b="0" lang="en-US" sz="2000" spc="-1" strike="noStrike">
                <a:solidFill>
                  <a:srgbClr val="000000"/>
                </a:solidFill>
                <a:latin typeface="Tahoma"/>
              </a:rPr>
              <a:t> phroneo, phronema and phronesis , phronimos is in view here. We use the word Mind this way in the phrases “single-minded” or “open-mind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mind is controllable and can be focused by the believer. The mind is the only part of our consciousness that we can control, and therefore it is of vital importance.</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ng The Mind </a:t>
            </a:r>
            <a:r>
              <a:rPr b="0" lang="en-US" sz="3200" spc="-1" strike="noStrike">
                <a:solidFill>
                  <a:srgbClr val="333399"/>
                </a:solidFill>
                <a:latin typeface="Tahoma"/>
              </a:rPr>
              <a:t>cont’d</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ul asks us to </a:t>
            </a:r>
            <a:r>
              <a:rPr b="1" lang="en-US" sz="2000" spc="-1" strike="noStrike">
                <a:solidFill>
                  <a:srgbClr val="000000"/>
                </a:solidFill>
                <a:latin typeface="Tahoma"/>
              </a:rPr>
              <a:t>set our mind</a:t>
            </a:r>
            <a:r>
              <a:rPr b="0" lang="en-US" sz="2000" spc="-1" strike="noStrike">
                <a:solidFill>
                  <a:srgbClr val="000000"/>
                </a:solidFill>
                <a:latin typeface="Tahoma"/>
              </a:rPr>
              <a:t> on various things such as the Spirit, things above, and the pursuit of maturi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the mind is that part of our total consciousness and awareness that we have some control ov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mind is what thinks when you do some real thinking.</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d is where you receive and mull over wisdom and where you make real choices about your actions. </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that part of your consciousness that you can control and exert and which bears a close relationship to the “real you”.</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ole Of The Mind</a:t>
            </a:r>
            <a:endParaRPr b="0" lang="en-US" sz="4400" spc="-1" strike="noStrike">
              <a:solidFill>
                <a:srgbClr val="333399"/>
              </a:solidFill>
              <a:latin typeface="Tahoma"/>
            </a:endParaRPr>
          </a:p>
        </p:txBody>
      </p:sp>
      <p:sp>
        <p:nvSpPr>
          <p:cNvPr id="10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mans 8:4-6 NKJV) that the righteous requirement of the law might be fulfilled in us who do not walk according to the flesh but according to the Spirit. {5} For those who live according to the flesh set their minds on the things of the flesh, but those who live according to the Spirit, the things of the Spirit. {6} For to be carnally minded is death, but to be spiritually minded is life and peac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ecisive factor in Biblical EQ is the Mind of the believer. If it is set on the flesh and we are carnally minded the result is death. If it is set on the Spirit and we are spiritually minded the result is life and peace. Chapter after chapter of Biblical EQ has demonstrated the truth of those two statements in Roman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en-US" sz="3600" spc="-1" strike="noStrike">
                <a:solidFill>
                  <a:srgbClr val="333399"/>
                </a:solidFill>
                <a:latin typeface="Tahoma"/>
              </a:rPr>
              <a:t>Phren” In The New Testament</a:t>
            </a:r>
            <a:endParaRPr b="0" lang="en-US" sz="3600" spc="-1" strike="noStrike">
              <a:solidFill>
                <a:srgbClr val="333399"/>
              </a:solidFill>
              <a:latin typeface="Tahoma"/>
            </a:endParaRPr>
          </a:p>
        </p:txBody>
      </p:sp>
      <p:sp>
        <p:nvSpPr>
          <p:cNvPr id="139" name="PlaceHolder 2"/>
          <p:cNvSpPr>
            <a:spLocks noGrp="1"/>
          </p:cNvSpPr>
          <p:nvPr>
            <p:ph/>
          </p:nvPr>
        </p:nvSpPr>
        <p:spPr>
          <a:xfrm>
            <a:off x="304920" y="2286000"/>
            <a:ext cx="86868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mind in the sense of the </a:t>
            </a:r>
            <a:r>
              <a:rPr b="1" lang="en-US" sz="1800" spc="-1" strike="noStrike">
                <a:solidFill>
                  <a:srgbClr val="000000"/>
                </a:solidFill>
                <a:latin typeface="Arial Narrow"/>
              </a:rPr>
              <a:t>phren </a:t>
            </a:r>
            <a:r>
              <a:rPr b="0" lang="en-US" sz="1800" spc="-1" strike="noStrike">
                <a:solidFill>
                  <a:srgbClr val="000000"/>
                </a:solidFill>
                <a:latin typeface="Arial Narrow"/>
              </a:rPr>
              <a:t>word family generally means the wisdom and understanding especially of the righteous (Luke 1:17, Ephesians 1:8).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ind be set on various things.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hen Jesus rebuked Peter he said he was “not mindful of the things of God, but the things of men." (Matthew 16:23, Mark 8:33), the legalistic Romans nit-picking about food and drink were literally “rules-minded” in the Greek (Romans 14:6).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mind can be set on the flesh or the Spirit (Romans 8:5,6) and things above (Colossians 3:2) or on earthly things (Philippians 2:19), which caused Paul to weep.</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Due to the renewing and infilling of the Holy Spirit we can even have “the mind of Christ” (1 Corinthians 2:14-16) and when we are humble servants we have a mind like Christ’s (Philippians 2:5). On the other hand we can have a childish mind (1 Corinthians 13:11, 14:20)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ty of mind is important and Christians are to be one-minded and like-minded. (Romans 12:16, 15:5, 2 Corinthians 13:11)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ord family can also mean the careful, prudent mind, that which thinks of others, the mindful and thoughtful person (Philippians 1:7, 4:10).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s Your Choice…</a:t>
            </a:r>
            <a:endParaRPr b="0" lang="en-US" sz="4400" spc="-1" strike="noStrike">
              <a:solidFill>
                <a:srgbClr val="333399"/>
              </a:solidFill>
              <a:latin typeface="Tahoma"/>
            </a:endParaRPr>
          </a:p>
        </p:txBody>
      </p:sp>
      <p:sp>
        <p:nvSpPr>
          <p:cNvPr id="14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it is clear from the New Testament that the sort of mind we end up with is entirely our choic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focus or mind on God’s interests or man’s interests, the Spirit or the flesh, the things above or earthly thing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choose to be humble, like-minded, unified and thoughtful of others or we can choose to be puffed up, childish, contentious, worldly and carnal.</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y The Mind…</a:t>
            </a:r>
            <a:endParaRPr b="0" lang="en-US" sz="4400" spc="-1" strike="noStrike">
              <a:solidFill>
                <a:srgbClr val="333399"/>
              </a:solidFill>
              <a:latin typeface="Tahoma"/>
            </a:endParaRPr>
          </a:p>
        </p:txBody>
      </p:sp>
      <p:sp>
        <p:nvSpPr>
          <p:cNvPr id="143" name="PlaceHolder 2"/>
          <p:cNvSpPr>
            <a:spLocks noGrp="1"/>
          </p:cNvSpPr>
          <p:nvPr>
            <p:ph/>
          </p:nvPr>
        </p:nvSpPr>
        <p:spPr>
          <a:xfrm>
            <a:off x="456840" y="2133720"/>
            <a:ext cx="8381880" cy="4572000"/>
          </a:xfrm>
          <a:prstGeom prst="rect">
            <a:avLst/>
          </a:prstGeom>
          <a:noFill/>
          <a:ln w="0">
            <a:noFill/>
          </a:ln>
        </p:spPr>
        <p:txBody>
          <a:bodyPr lIns="90000" rIns="90000" tIns="46800" bIns="46800" anchor="t">
            <a:normAutofit/>
          </a:bodyPr>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the only part of our consciousness that we can focus and direct therefore it is the only part of us that can give us mastery.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million dollars will not give you personal mastery. People who win the lottery often end up poor because of their lack of personal mastery. The money has not made them masterful.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trong body will not give you mastery except of certain physical skills. Athletes can be enslaved to alcohol or drugs.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ducation will not give you personal mastery, there are many well educated people who are small-minded and weak-willed.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llpower won’t give you mastery as the will can simply become stubborn and inflexible, unable to adapt to changing situations and thus lead to inevitable defeat.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n religion won’t give you mastery. Many people are enslaved by cults, caught up in bondage to religious guilt or overtaken by idolatry and superstition.</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i="1" lang="en-US" sz="1600" spc="-1" strike="noStrike">
                <a:solidFill>
                  <a:srgbClr val="000000"/>
                </a:solidFill>
                <a:latin typeface="Tahoma"/>
              </a:rPr>
              <a:t>Only the adaptable, flexible, trained, focused and disciplined mind can bring mastery</a:t>
            </a:r>
            <a:r>
              <a:rPr b="0" lang="en-US" sz="1600" spc="-1" strike="noStrike">
                <a:solidFill>
                  <a:srgbClr val="000000"/>
                </a:solidFill>
                <a:latin typeface="Tahoma"/>
              </a:rPr>
              <a: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Quick Clarification</a:t>
            </a:r>
            <a:endParaRPr b="0" lang="en-US" sz="4400" spc="-1" strike="noStrike">
              <a:solidFill>
                <a:srgbClr val="333399"/>
              </a:solidFill>
              <a:latin typeface="Tahoma"/>
            </a:endParaRPr>
          </a:p>
        </p:txBody>
      </p:sp>
      <p:sp>
        <p:nvSpPr>
          <p:cNvPr id="145"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am not advocating mentalist philosophies, mind science, Christian Science, or think and grow rich kinds of mental mastery. They are half-truth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not a terribly significant force in itself. The mind does not have the ability to create heaven or hell as Blake thought. God creates Heaven and Hell. Reality is His creation, not our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does not create the world but it does enable us to move through it with poise and pow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not God. The mind works best when it is set on God.</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 biblical terms personal and emotional mastery is a product of the mind set on God and imbued with His Word and authorit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unaided mind operating alone by itself cannot produce mastery of the kind we see in the life of Jesus Christ.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that kind of mastery we need more than positive thinking. We need a direct connection to God and the mind must be resolutely set on God, on the Spirit, on things above, on the Kingdom, and the righteousness thereof.</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ee Truths</a:t>
            </a:r>
            <a:endParaRPr b="0" lang="en-US" sz="4400" spc="-1" strike="noStrike">
              <a:solidFill>
                <a:srgbClr val="333399"/>
              </a:solidFill>
              <a:latin typeface="Tahoma"/>
            </a:endParaRPr>
          </a:p>
        </p:txBody>
      </p:sp>
      <p:sp>
        <p:nvSpPr>
          <p:cNvPr id="147" name="PlaceHolder 2"/>
          <p:cNvSpPr>
            <a:spLocks noGrp="1"/>
          </p:cNvSpPr>
          <p:nvPr>
            <p:ph/>
          </p:nvPr>
        </p:nvSpPr>
        <p:spPr>
          <a:xfrm>
            <a:off x="380520" y="2438280"/>
            <a:ext cx="8574120" cy="3694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we see that we are faced with three universal truth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stly that personal mastery is the only wise op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ly that such mastery is solely a product of the min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ly that the mind becomes masterful as it is disciplined and focused on something outside itself.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ook maintains that the highest degree of mastery can only be attained when the ‘something outside itself” is Go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achieve a sense of mastery by focusing your mind on fencing or gymnastics or horse-riding but you won’t end up like Jesus just by focusing on those thing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mind must be directed onto Christ. That is its proper plac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irecting The Mind Onto Christ</a:t>
            </a:r>
            <a:endParaRPr b="0" lang="en-US" sz="4000" spc="-1" strike="noStrike">
              <a:solidFill>
                <a:srgbClr val="333399"/>
              </a:solidFill>
              <a:latin typeface="Tahoma"/>
            </a:endParaRPr>
          </a:p>
        </p:txBody>
      </p:sp>
      <p:sp>
        <p:nvSpPr>
          <p:cNvPr id="149" name="PlaceHolder 2"/>
          <p:cNvSpPr>
            <a:spLocks noGrp="1"/>
          </p:cNvSpPr>
          <p:nvPr>
            <p:ph/>
          </p:nvPr>
        </p:nvSpPr>
        <p:spPr>
          <a:xfrm>
            <a:off x="304920" y="2286000"/>
            <a:ext cx="8153280" cy="40384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directing of the mind is a forceful and decisive activ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not speculating about Christ or studying or daydreaming about Chris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similar to standing outside yourself and directing yourself onto Chris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ke standing at the top of a high-dive tower and looking down and plunging in with total commitmen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s choosing where your life energies will be focused and your mental processes direct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whole of the mind is fixed on Christ and directs the total life energies of the believer in that direc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this focus is attained everything else is entrained, the emotions, the will and the response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stery Involves Rules</a:t>
            </a:r>
            <a:endParaRPr b="0" lang="en-US" sz="4400" spc="-1" strike="noStrike">
              <a:solidFill>
                <a:srgbClr val="333399"/>
              </a:solidFill>
              <a:latin typeface="Tahoma"/>
            </a:endParaRPr>
          </a:p>
        </p:txBody>
      </p:sp>
      <p:sp>
        <p:nvSpPr>
          <p:cNvPr id="151" name="PlaceHolder 2"/>
          <p:cNvSpPr>
            <a:spLocks noGrp="1"/>
          </p:cNvSpPr>
          <p:nvPr>
            <p:ph/>
          </p:nvPr>
        </p:nvSpPr>
        <p:spPr>
          <a:xfrm>
            <a:off x="456840" y="2286000"/>
            <a:ext cx="8001000" cy="28195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writer still has to follow the rules of gramma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badminton player still has to follow the laws of the spor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ristians have to follow the commandments of Chri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ing the Christian life involves following the rules – but is much more than just merely following the rul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chess player follows the rules - but the game is much more than mere rule-keepi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ce the rules become internalized - then real living begi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Requisites</a:t>
            </a:r>
            <a:endParaRPr b="0" lang="en-US" sz="4400" spc="-1" strike="noStrike">
              <a:solidFill>
                <a:srgbClr val="333399"/>
              </a:solidFill>
              <a:latin typeface="Tahoma"/>
            </a:endParaRPr>
          </a:p>
        </p:txBody>
      </p:sp>
      <p:sp>
        <p:nvSpPr>
          <p:cNvPr id="153" name="PlaceHolder 2"/>
          <p:cNvSpPr>
            <a:spLocks noGrp="1"/>
          </p:cNvSpPr>
          <p:nvPr>
            <p:ph/>
          </p:nvPr>
        </p:nvSpPr>
        <p:spPr>
          <a:xfrm>
            <a:off x="380520" y="2209680"/>
            <a:ext cx="8001000" cy="36576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bsolute prerequisites of spiritual progress are that you are:</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orn-again with a new nature from God</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you have the filling of the Holy Spirit an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you are single-mindedly devoted to God in obedience to His wor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less you are born-again you do not have a new nature. Without the new nature it’s an impossible job.</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you are not Spirit-filled and led by the Spirit in your daily life then you will not have power over the flesh (see Galatians 5:16-18) and you will struggle continually and lose continually.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are not single-minded you will be double-minded and double-minded people receive nothing from the Lord (James 1:5-8).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1</a:t>
            </a:r>
            <a:endParaRPr b="0" lang="en-US" sz="4400" spc="-1" strike="noStrike">
              <a:solidFill>
                <a:srgbClr val="333399"/>
              </a:solidFill>
              <a:latin typeface="Tahoma"/>
            </a:endParaRPr>
          </a:p>
        </p:txBody>
      </p:sp>
      <p:sp>
        <p:nvSpPr>
          <p:cNvPr id="155" name="PlaceHolder 2"/>
          <p:cNvSpPr>
            <a:spLocks noGrp="1"/>
          </p:cNvSpPr>
          <p:nvPr>
            <p:ph/>
          </p:nvPr>
        </p:nvSpPr>
        <p:spPr>
          <a:xfrm>
            <a:off x="380880" y="2285640"/>
            <a:ext cx="8229600" cy="43434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ay attention to your physical state.</a:t>
            </a:r>
            <a:r>
              <a:rPr b="0" lang="en-US" sz="1600" spc="-1" strike="noStrike">
                <a:solidFill>
                  <a:srgbClr val="000000"/>
                </a:solidFill>
                <a:latin typeface="Tahoma"/>
              </a:rPr>
              <a:t> If you realize that your fists are clenched and your neck is rigid and you are physically tensed up and alerted for danger then try to undo those physical states. Unclench your fists, rub your neck, relax your posture. The fight or flight response is partly a physical response and as we undo its physical correlates it will lose much of its power. Perhaps try and relax or use deep breathing if you are tense, guarded or explosive. </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e aware of the magnitude of your emotional responses</a:t>
            </a:r>
            <a:r>
              <a:rPr b="0" lang="en-US" sz="1600" spc="-1" strike="noStrike">
                <a:solidFill>
                  <a:srgbClr val="000000"/>
                </a:solidFill>
                <a:latin typeface="Tahoma"/>
              </a:rPr>
              <a:t> and the quick “zoom” to anger or anxiety that the fight or flight response produces. Learn to recognize when you are zooming to disaster and practice keeping a lid on i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ake time to think.</a:t>
            </a:r>
            <a:r>
              <a:rPr b="0" lang="en-US" sz="1600" spc="-1" strike="noStrike">
                <a:solidFill>
                  <a:srgbClr val="000000"/>
                </a:solidFill>
                <a:latin typeface="Tahoma"/>
              </a:rPr>
              <a:t> Use your God-given right to choose your response. Do not just respond on auto-pilot. Once you stop and think you are far more likely to choose a good and much more optimal solution.</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sengage.</a:t>
            </a:r>
            <a:r>
              <a:rPr b="0" lang="en-US" sz="1600" spc="-1" strike="noStrike">
                <a:solidFill>
                  <a:srgbClr val="000000"/>
                </a:solidFill>
                <a:latin typeface="Tahoma"/>
              </a:rPr>
              <a:t> If you have started to move into attack mode pull back the troops! Go for a walk, cool down. Have a pray about i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2</a:t>
            </a:r>
            <a:endParaRPr b="0" lang="en-US" sz="4400" spc="-1" strike="noStrike">
              <a:solidFill>
                <a:srgbClr val="333399"/>
              </a:solidFill>
              <a:latin typeface="Tahoma"/>
            </a:endParaRPr>
          </a:p>
        </p:txBody>
      </p:sp>
      <p:sp>
        <p:nvSpPr>
          <p:cNvPr id="157" name="PlaceHolder 2"/>
          <p:cNvSpPr>
            <a:spLocks noGrp="1"/>
          </p:cNvSpPr>
          <p:nvPr>
            <p:ph/>
          </p:nvPr>
        </p:nvSpPr>
        <p:spPr>
          <a:xfrm>
            <a:off x="456840" y="2057400"/>
            <a:ext cx="807732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If you are going into a situation that you know aggravates you (such as dealing with an annoying person) try to </a:t>
            </a:r>
            <a:r>
              <a:rPr b="1" lang="en-US" sz="1800" spc="-1" strike="noStrike">
                <a:solidFill>
                  <a:srgbClr val="000000"/>
                </a:solidFill>
                <a:latin typeface="Tahoma"/>
              </a:rPr>
              <a:t>make a conscious decision about how you are going to react in that situation</a:t>
            </a:r>
            <a:r>
              <a:rPr b="0" lang="en-US" sz="1800" spc="-1" strike="noStrike">
                <a:solidFill>
                  <a:srgbClr val="000000"/>
                </a:solidFill>
                <a:latin typeface="Tahoma"/>
              </a:rPr>
              <a:t>. Then </a:t>
            </a:r>
            <a:r>
              <a:rPr b="1" lang="en-US" sz="1800" spc="-1" strike="noStrike">
                <a:solidFill>
                  <a:srgbClr val="000000"/>
                </a:solidFill>
                <a:latin typeface="Tahoma"/>
              </a:rPr>
              <a:t>rehearse your balanced and biblical reaction</a:t>
            </a:r>
            <a:r>
              <a:rPr b="0" lang="en-US" sz="1800" spc="-1" strike="noStrike">
                <a:solidFill>
                  <a:srgbClr val="000000"/>
                </a:solidFill>
                <a:latin typeface="Tahoma"/>
              </a:rPr>
              <a:t> over and over in your mind. Perhaps seven times or seventy times seven? (see Matthew 18) Train yourself mentally to react rightly just like professional golfers ‘see the ball going in the hole’ even before they make the shot. Use mental rehearsal to disarm potential conflict situation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converse of this - </a:t>
            </a:r>
            <a:r>
              <a:rPr b="1" lang="en-US" sz="1800" spc="-1" strike="noStrike">
                <a:solidFill>
                  <a:srgbClr val="000000"/>
                </a:solidFill>
                <a:latin typeface="Tahoma"/>
              </a:rPr>
              <a:t>don’t mentally rehearse the wrong response.</a:t>
            </a:r>
            <a:r>
              <a:rPr b="0" lang="en-US" sz="1800" spc="-1" strike="noStrike">
                <a:solidFill>
                  <a:srgbClr val="000000"/>
                </a:solidFill>
                <a:latin typeface="Tahoma"/>
              </a:rPr>
              <a:t> Don’t see in your mind’s eye a picture of yourself strangling the boss of the phone company. It may be very satisfying but it is not helpful. It is educating yourself in the wrong directio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a:t>
            </a:r>
            <a:r>
              <a:rPr b="1" lang="en-US" sz="1800" spc="-1" strike="noStrike">
                <a:solidFill>
                  <a:srgbClr val="000000"/>
                </a:solidFill>
                <a:latin typeface="Tahoma"/>
              </a:rPr>
              <a:t>‘what would Jesus do?’ </a:t>
            </a:r>
            <a:r>
              <a:rPr b="0" lang="en-US" sz="1800" spc="-1" strike="noStrike">
                <a:solidFill>
                  <a:srgbClr val="000000"/>
                </a:solidFill>
                <a:latin typeface="Tahoma"/>
              </a:rPr>
              <a:t>question as a quick referen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ht, Flight Or Mastery</a:t>
            </a:r>
            <a:endParaRPr b="0" lang="en-US" sz="4400" spc="-1" strike="noStrike">
              <a:solidFill>
                <a:srgbClr val="333399"/>
              </a:solidFill>
              <a:latin typeface="Tahoma"/>
            </a:endParaRPr>
          </a:p>
        </p:txBody>
      </p:sp>
      <p:sp>
        <p:nvSpPr>
          <p:cNvPr id="10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e are faced with a challenging situation we have three possible emotional responses – fight, flight or master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ight OR Flight” is often an adrenaline based, un-thought-out response that gets us into trou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al mastery is the Jesus response and the most effective way to liv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3</a:t>
            </a:r>
            <a:endParaRPr b="0" lang="en-US" sz="4400" spc="-1" strike="noStrike">
              <a:solidFill>
                <a:srgbClr val="333399"/>
              </a:solidFill>
              <a:latin typeface="Tahoma"/>
            </a:endParaRPr>
          </a:p>
        </p:txBody>
      </p:sp>
      <p:sp>
        <p:nvSpPr>
          <p:cNvPr id="15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estion your perceptions of threat.</a:t>
            </a:r>
            <a:r>
              <a:rPr b="0" lang="en-US" sz="1600" spc="-1" strike="noStrike">
                <a:solidFill>
                  <a:srgbClr val="000000"/>
                </a:solidFill>
                <a:latin typeface="Tahoma"/>
              </a:rPr>
              <a:t> Is this really a life or death issue? Am I getting tensed up over nothing? What does it say about me if I am so easily riled? Or on the flight response: Is it really that bad? Is the world going to end over this? Is this fear, anxiety and emotional reactivity helping me? Has running away from things helped or hindered my life?</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rn to find your emotional center</a:t>
            </a:r>
            <a:r>
              <a:rPr b="0" lang="en-US" sz="1600" spc="-1" strike="noStrike">
                <a:solidFill>
                  <a:srgbClr val="000000"/>
                </a:solidFill>
                <a:latin typeface="Tahoma"/>
              </a:rPr>
              <a:t> and to live from it and to know when it is in balance and out of balance. This is quite difficult for many people.</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me people will push you</a:t>
            </a:r>
            <a:r>
              <a:rPr b="0" lang="en-US" sz="1600" spc="-1" strike="noStrike">
                <a:solidFill>
                  <a:srgbClr val="000000"/>
                </a:solidFill>
                <a:latin typeface="Tahoma"/>
              </a:rPr>
              <a:t> wanting you to explode so they can take advantage of your immature reaction. Be alert to this and deliberately react the opposite way they are pushing you. (1 Corinthians 4:12) For instance when they revile you greet them with a blessing. (1 Peter 2:23 NKJV) who, when He was reviled, did not revile in return; when He suffered, He did not threaten, but committed Himself to Him who judges righteously;</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4</a:t>
            </a:r>
            <a:endParaRPr b="0" lang="en-US" sz="4400" spc="-1" strike="noStrike">
              <a:solidFill>
                <a:srgbClr val="333399"/>
              </a:solidFill>
              <a:latin typeface="Tahoma"/>
            </a:endParaRPr>
          </a:p>
        </p:txBody>
      </p:sp>
      <p:sp>
        <p:nvSpPr>
          <p:cNvPr id="161" name="PlaceHolder 2"/>
          <p:cNvSpPr>
            <a:spLocks noGrp="1"/>
          </p:cNvSpPr>
          <p:nvPr>
            <p:ph/>
          </p:nvPr>
        </p:nvSpPr>
        <p:spPr>
          <a:xfrm>
            <a:off x="533520" y="2209320"/>
            <a:ext cx="8076960" cy="403884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Remember that when you react rightly to unjust treatment that </a:t>
            </a:r>
            <a:r>
              <a:rPr b="1" lang="en-US" sz="1600" spc="-1" strike="noStrike">
                <a:solidFill>
                  <a:srgbClr val="000000"/>
                </a:solidFill>
                <a:latin typeface="Tahoma"/>
              </a:rPr>
              <a:t>“great is your reward in heaven”.</a:t>
            </a:r>
            <a:r>
              <a:rPr b="0" lang="en-US" sz="1600" spc="-1" strike="noStrike">
                <a:solidFill>
                  <a:srgbClr val="000000"/>
                </a:solidFill>
                <a:latin typeface="Tahoma"/>
              </a:rPr>
              <a:t> So rejoice and give yourself a pat on the back when you keep your cool. Positive reinforcement for good behavior. (Matthew 5:11)</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o not return evil for evil.</a:t>
            </a:r>
            <a:r>
              <a:rPr b="0" lang="en-US" sz="1600" spc="-1" strike="noStrike">
                <a:solidFill>
                  <a:srgbClr val="000000"/>
                </a:solidFill>
                <a:latin typeface="Tahoma"/>
              </a:rPr>
              <a:t> (Romans 12:17) Keep a lid on your desire to retaliate. Leave retaliation to the Lord. (Romans 12:19) If we return a blessing instead we will inherit blessing. . (1 Peter 3:9).</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people rip you off and insult you </a:t>
            </a:r>
            <a:r>
              <a:rPr b="1" lang="en-US" sz="1600" spc="-1" strike="noStrike">
                <a:solidFill>
                  <a:srgbClr val="000000"/>
                </a:solidFill>
                <a:latin typeface="Tahoma"/>
              </a:rPr>
              <a:t>don’t escalate it into a life or death struggle</a:t>
            </a:r>
            <a:r>
              <a:rPr b="0" lang="en-US" sz="1600" spc="-1" strike="noStrike">
                <a:solidFill>
                  <a:srgbClr val="000000"/>
                </a:solidFill>
                <a:latin typeface="Tahoma"/>
              </a:rPr>
              <a:t> over honor and pride. This is what Jesus means when He says “do not resist him who is evil”. (He does not mean that the police should not arrest robbers!) Rather it means “don’t let the evil person push you into a full-scale, adrenalin packed, fight or flight response”. Deny the natural man’s urge to strike back. If he slaps you, turn the other cheek, if he takes your cloak, let him, if he makes you walk a mile, go two. If he says “give me money” let him have some. (Matthew 5:38-42). Deny your reactivity and show you are made of different stuff</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5</a:t>
            </a:r>
            <a:endParaRPr b="0" lang="en-US" sz="4400" spc="-1" strike="noStrike">
              <a:solidFill>
                <a:srgbClr val="333399"/>
              </a:solidFill>
              <a:latin typeface="Tahoma"/>
            </a:endParaRPr>
          </a:p>
        </p:txBody>
      </p:sp>
      <p:sp>
        <p:nvSpPr>
          <p:cNvPr id="163" name="PlaceHolder 2"/>
          <p:cNvSpPr>
            <a:spLocks noGrp="1"/>
          </p:cNvSpPr>
          <p:nvPr>
            <p:ph/>
          </p:nvPr>
        </p:nvSpPr>
        <p:spPr>
          <a:xfrm>
            <a:off x="380880" y="2209320"/>
            <a:ext cx="784872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n’t let unkind, ungrateful, stingy, mean or small-minded people get to you.</a:t>
            </a:r>
            <a:r>
              <a:rPr b="0" lang="en-US" sz="1800" spc="-1" strike="noStrike">
                <a:solidFill>
                  <a:srgbClr val="000000"/>
                </a:solidFill>
                <a:latin typeface="Tahoma"/>
              </a:rPr>
              <a:t> God is merciful to the unkind and ungrateful and we have a great reward in heaven when we do likewise. (Luke 6:35) Brush their meanness to one side without taking it too personally and treat them as well as you can with reasonable safety (because some are quite toxic).</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get your ego hooked</a:t>
            </a:r>
            <a:r>
              <a:rPr b="0" lang="en-US" sz="1800" spc="-1" strike="noStrike">
                <a:solidFill>
                  <a:srgbClr val="000000"/>
                </a:solidFill>
                <a:latin typeface="Tahoma"/>
              </a:rPr>
              <a:t> into the game of “Christian comparisons”, my church is bigger than your church etc. This only leads to fuming and fighting.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let theology push you into fight or flight mode.</a:t>
            </a:r>
            <a:r>
              <a:rPr b="0" lang="en-US" sz="1800" spc="-1" strike="noStrike">
                <a:solidFill>
                  <a:srgbClr val="000000"/>
                </a:solidFill>
                <a:latin typeface="Tahoma"/>
              </a:rPr>
              <a:t> Only debate under circumstances that are harmless to the hearers (such as with good friends in the ministry) unless of course there is an urgent apologetic reason. Even then your speech should be seasoned with sal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6</a:t>
            </a:r>
            <a:endParaRPr b="0" lang="en-US" sz="4400" spc="-1" strike="noStrike">
              <a:solidFill>
                <a:srgbClr val="333399"/>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rn correct responses</a:t>
            </a:r>
            <a:r>
              <a:rPr b="0" lang="en-US" sz="2000" spc="-1" strike="noStrike">
                <a:solidFill>
                  <a:srgbClr val="000000"/>
                </a:solidFill>
                <a:latin typeface="Tahoma"/>
              </a:rPr>
              <a:t> by modeling mature Christians and by studying the heroes of the fait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personal </a:t>
            </a:r>
            <a:r>
              <a:rPr b="1" lang="en-US" sz="2000" spc="-1" strike="noStrike">
                <a:solidFill>
                  <a:srgbClr val="000000"/>
                </a:solidFill>
                <a:latin typeface="Tahoma"/>
              </a:rPr>
              <a:t>commitment</a:t>
            </a:r>
            <a:r>
              <a:rPr b="0" lang="en-US" sz="2000" spc="-1" strike="noStrike">
                <a:solidFill>
                  <a:srgbClr val="000000"/>
                </a:solidFill>
                <a:latin typeface="Tahoma"/>
              </a:rPr>
              <a:t> to grow in this are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some friends keep you </a:t>
            </a:r>
            <a:r>
              <a:rPr b="1" lang="en-US" sz="2000" spc="-1" strike="noStrike">
                <a:solidFill>
                  <a:srgbClr val="000000"/>
                </a:solidFill>
                <a:latin typeface="Tahoma"/>
              </a:rPr>
              <a:t>accountable</a:t>
            </a:r>
            <a:r>
              <a:rPr b="0" lang="en-US" sz="2000" spc="-1" strike="noStrike">
                <a:solidFill>
                  <a:srgbClr val="000000"/>
                </a:solidFill>
                <a:latin typeface="Tahoma"/>
              </a:rPr>
              <a:t> for your reactions and encourage you to maturit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joy the </a:t>
            </a:r>
            <a:r>
              <a:rPr b="1" lang="en-US" sz="2000" spc="-1" strike="noStrike">
                <a:solidFill>
                  <a:srgbClr val="000000"/>
                </a:solidFill>
                <a:latin typeface="Tahoma"/>
              </a:rPr>
              <a:t>feeling of grace</a:t>
            </a:r>
            <a:r>
              <a:rPr b="0" lang="en-US" sz="2000" spc="-1" strike="noStrike">
                <a:solidFill>
                  <a:srgbClr val="000000"/>
                </a:solidFill>
                <a:latin typeface="Tahoma"/>
              </a:rPr>
              <a:t> rather than the feeling of explosive emotional power.</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light – Into Agoraphobia</a:t>
            </a:r>
            <a:endParaRPr b="0" lang="en-US" sz="4400" spc="-1" strike="noStrike">
              <a:solidFill>
                <a:srgbClr val="333399"/>
              </a:solidFill>
              <a:latin typeface="Tahoma"/>
            </a:endParaRPr>
          </a:p>
        </p:txBody>
      </p:sp>
      <p:sp>
        <p:nvSpPr>
          <p:cNvPr id="167" name="PlaceHolder 2"/>
          <p:cNvSpPr>
            <a:spLocks noGrp="1"/>
          </p:cNvSpPr>
          <p:nvPr>
            <p:ph/>
          </p:nvPr>
        </p:nvSpPr>
        <p:spPr>
          <a:xfrm>
            <a:off x="685800" y="2285640"/>
            <a:ext cx="7772400" cy="39625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fe circumstances cause the person to reach, at some point in their life, a point of </a:t>
            </a:r>
            <a:r>
              <a:rPr b="1" lang="en-US" sz="1800" spc="-1" strike="noStrike">
                <a:solidFill>
                  <a:srgbClr val="000000"/>
                </a:solidFill>
                <a:latin typeface="Tahoma"/>
              </a:rPr>
              <a:t>nervous exhaustion</a:t>
            </a:r>
            <a:r>
              <a:rPr b="0" lang="en-US" sz="1800" spc="-1" strike="noStrike">
                <a:solidFill>
                  <a:srgbClr val="000000"/>
                </a:solidFill>
                <a:latin typeface="Tahoma"/>
              </a:rPr>
              <a:t> in which fear that already exists cannot be suppressed or controlled by the will and during which new fears can be easily implant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range frightening thoughts then appear in a tired mind.</a:t>
            </a:r>
            <a:r>
              <a:rPr b="0" lang="en-US" sz="1800" spc="-1" strike="noStrike">
                <a:solidFill>
                  <a:srgbClr val="000000"/>
                </a:solidFill>
                <a:latin typeface="Tahoma"/>
              </a:rPr>
              <a:t> The person worries about these thoughts. This further activates the fight or flight response and exhausts the person and so they have even less energy to control their fears with. More fears then surface, the person then worries, and so on in a vicious circle. The strange thoughts in the tired mind eventually reach such an intensity that they lead the person to the threshold of panic.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mall incident then triggers a full-scale </a:t>
            </a:r>
            <a:r>
              <a:rPr b="1" lang="en-US" sz="1800" spc="-1" strike="noStrike">
                <a:solidFill>
                  <a:srgbClr val="000000"/>
                </a:solidFill>
                <a:latin typeface="Tahoma"/>
              </a:rPr>
              <a:t>panic attack</a:t>
            </a:r>
            <a:r>
              <a:rPr b="0" lang="en-US" sz="1800" spc="-1" strike="noStrike">
                <a:solidFill>
                  <a:srgbClr val="000000"/>
                </a:solidFill>
                <a:latin typeface="Tahoma"/>
              </a:rPr>
              <a:t>, which, if this spiral continues, may become the first of many.</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engaging From Your Fears</a:t>
            </a:r>
            <a:endParaRPr b="0" lang="en-US" sz="4400" spc="-1" strike="noStrike">
              <a:solidFill>
                <a:srgbClr val="333399"/>
              </a:solidFill>
              <a:latin typeface="Tahoma"/>
            </a:endParaRPr>
          </a:p>
        </p:txBody>
      </p:sp>
      <p:sp>
        <p:nvSpPr>
          <p:cNvPr id="169" name="PlaceHolder 2"/>
          <p:cNvSpPr>
            <a:spLocks noGrp="1"/>
          </p:cNvSpPr>
          <p:nvPr>
            <p:ph/>
          </p:nvPr>
        </p:nvSpPr>
        <p:spPr>
          <a:xfrm>
            <a:off x="304560" y="2133360"/>
            <a:ext cx="845820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tering such fear means moving away from the fight or flight respo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ead of trying to fight the fears or run away from them they are just accept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osition of not fighting and not running away disengages the fight or flight response, lowers the adrenalin levels and helps the person think.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encouraged to go slowly because the need to “hurry” or take action activates the fight or flight response. </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encouraged to rest, eat properly and recover strength and get over their prior depletion. This enables then to get some perspective on their fears</a:t>
            </a:r>
            <a:r>
              <a:rPr b="0" lang="en-US" sz="1800" spc="-1" strike="noStrike">
                <a:solidFill>
                  <a:srgbClr val="000000"/>
                </a:solidFill>
                <a:latin typeface="Arial Narrow"/>
              </a:rPr>
              <a: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loating Through…</a:t>
            </a:r>
            <a:endParaRPr b="0" lang="en-US" sz="4400" spc="-1" strike="noStrike">
              <a:solidFill>
                <a:srgbClr val="333399"/>
              </a:solidFill>
              <a:latin typeface="Tahoma"/>
            </a:endParaRPr>
          </a:p>
        </p:txBody>
      </p:sp>
      <p:sp>
        <p:nvSpPr>
          <p:cNvPr id="17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nly way to deal with fear is going through. “Even jelly legs will get you ther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f great importance is “floating through” difficult experiences. The problem with fearful people is they engage life too tightly. When you grab life too tightly it bounces you round and you end up either struggling with it or fleeing from i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bit of detachment can lead to peace of mind. “Floating through” can help people survive normally traumatic experiences such as shopping in a large mall. The person floats through the shop door, floats around the store, floats up to the counter, floats out the money and pays for the goods and floats out again.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person is slightly detached but not dissociated from reality and is able to do the task that was impossible before.</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ur Key Concepts</a:t>
            </a:r>
            <a:endParaRPr b="0" lang="en-US" sz="4400" spc="-1" strike="noStrike">
              <a:solidFill>
                <a:srgbClr val="333399"/>
              </a:solidFill>
              <a:latin typeface="Tahoma"/>
            </a:endParaRPr>
          </a:p>
        </p:txBody>
      </p:sp>
      <p:sp>
        <p:nvSpPr>
          <p:cNvPr id="173" name="PlaceHolder 2"/>
          <p:cNvSpPr>
            <a:spLocks noGrp="1"/>
          </p:cNvSpPr>
          <p:nvPr>
            <p:ph/>
          </p:nvPr>
        </p:nvSpPr>
        <p:spPr>
          <a:xfrm>
            <a:off x="533520" y="2133360"/>
            <a:ext cx="77724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ace, do not run awa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Accept, do not figh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Float, do not tens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Let time pass – do not be impatient with tim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acting To Spiritual Experiences</a:t>
            </a:r>
            <a:endParaRPr b="0" lang="en-US" sz="3600" spc="-1" strike="noStrike">
              <a:solidFill>
                <a:srgbClr val="333399"/>
              </a:solidFill>
              <a:latin typeface="Tahoma"/>
            </a:endParaRPr>
          </a:p>
        </p:txBody>
      </p:sp>
      <p:sp>
        <p:nvSpPr>
          <p:cNvPr id="17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ful spiritual experiences often invoke the fight or flight respons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need to face them, not run away from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need to accept them calmly – and evaluate them wise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hould quietly move through them and not become threatened and aggressi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hould let time pass, weigh them up carefully, and not rush around in respons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 Intimidating Workload</a:t>
            </a:r>
            <a:endParaRPr b="0" lang="en-US" sz="4400" spc="-1" strike="noStrike">
              <a:solidFill>
                <a:srgbClr val="333399"/>
              </a:solidFill>
              <a:latin typeface="Tahoma"/>
            </a:endParaRPr>
          </a:p>
        </p:txBody>
      </p:sp>
      <p:sp>
        <p:nvSpPr>
          <p:cNvPr id="177"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the workload, don’t run from i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y accept that it has to be done, don’t see it as a threa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a list, put it in order of priority and float through it one task at a time. Don’t tense up and become hurried and nervy.</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time pass. Stop watching the clock, if you are working efficiently and doing the jobs in order of priority then time is not the proble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ht OR Flight</a:t>
            </a:r>
            <a:endParaRPr b="0" lang="en-US" sz="4400" spc="-1" strike="noStrike">
              <a:solidFill>
                <a:srgbClr val="333399"/>
              </a:solidFill>
              <a:latin typeface="Tahoma"/>
            </a:endParaRPr>
          </a:p>
        </p:txBody>
      </p:sp>
      <p:sp>
        <p:nvSpPr>
          <p:cNvPr id="107"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drenalin-based response that may be appropriate when dealing with a tig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very useful in the daily lives most of us lea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od rushes to the muscles and the body gears up for action. Blood is thus diverted away from the brai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kes us unable to think clearly or respond wisely.</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Focussed Thinking</a:t>
            </a:r>
            <a:endParaRPr b="0" lang="en-US" sz="4400" spc="-1" strike="noStrike">
              <a:solidFill>
                <a:srgbClr val="333399"/>
              </a:solidFill>
              <a:latin typeface="Tahoma"/>
            </a:endParaRPr>
          </a:p>
        </p:txBody>
      </p:sp>
      <p:sp>
        <p:nvSpPr>
          <p:cNvPr id="17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cus on finding the solution rather than analyzing the problem.</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we </a:t>
            </a:r>
            <a:r>
              <a:rPr b="0" lang="en-US" sz="1800" spc="-1" strike="noStrike">
                <a:solidFill>
                  <a:srgbClr val="333399"/>
                </a:solidFill>
                <a:latin typeface="Tahoma"/>
              </a:rPr>
              <a:t>focus on the problem</a:t>
            </a:r>
            <a:r>
              <a:rPr b="0" lang="en-US" sz="1800" spc="-1" strike="noStrike">
                <a:solidFill>
                  <a:srgbClr val="000000"/>
                </a:solidFill>
                <a:latin typeface="Tahoma"/>
              </a:rPr>
              <a:t> we end up blaming, analyzing, and often activate the fight or flight respons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we </a:t>
            </a:r>
            <a:r>
              <a:rPr b="0" lang="en-US" sz="1800" spc="-1" strike="noStrike">
                <a:solidFill>
                  <a:srgbClr val="333399"/>
                </a:solidFill>
                <a:latin typeface="Tahoma"/>
              </a:rPr>
              <a:t>focus on the solution</a:t>
            </a:r>
            <a:r>
              <a:rPr b="0" lang="en-US" sz="1800" spc="-1" strike="noStrike">
                <a:solidFill>
                  <a:srgbClr val="000000"/>
                </a:solidFill>
                <a:latin typeface="Tahoma"/>
              </a:rPr>
              <a:t> we use our creativity and our sense of mastery and become constructive peopl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ul Problema gets a flat tire, finds the nail, analyzes the nail, works out how the nail got on the road, is still stuck there two weeks later fuming in anger and crusading about nails on road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 Solution gets a flat tire, gets the jack, takes off the wheel, puts on the spare and is driving home ten minutes later. Watches Paul Problema’s campaign on TV and laugh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F Thinking In Action</a:t>
            </a:r>
            <a:endParaRPr b="0" lang="en-US" sz="4400" spc="-1" strike="noStrike">
              <a:solidFill>
                <a:srgbClr val="333399"/>
              </a:solidFill>
              <a:latin typeface="Tahoma"/>
            </a:endParaRPr>
          </a:p>
        </p:txBody>
      </p:sp>
      <p:sp>
        <p:nvSpPr>
          <p:cNvPr id="181" name="PlaceHolder 2"/>
          <p:cNvSpPr>
            <a:spLocks noGrp="1"/>
          </p:cNvSpPr>
          <p:nvPr>
            <p:ph/>
          </p:nvPr>
        </p:nvSpPr>
        <p:spPr>
          <a:xfrm>
            <a:off x="457200" y="2286000"/>
            <a:ext cx="7772400" cy="40384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st find a solution. Don’t ask why the stream is flooding or sit around analyzing the water quality – just find the bridge and walk acros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oid the paralysis of analysi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t see problems everywhere. Learn to </a:t>
            </a:r>
            <a:r>
              <a:rPr b="1" lang="en-US" sz="1800" spc="-1" strike="noStrike">
                <a:solidFill>
                  <a:srgbClr val="000000"/>
                </a:solidFill>
                <a:latin typeface="Tahoma"/>
              </a:rPr>
              <a:t>see solutions everywher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g problems sometimes have really simple solu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do what you have always done you will get what you have always go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k what is working and do more of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it’s not working stop doing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t fix the blame – fix the problem.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mp; Solutions</a:t>
            </a:r>
            <a:endParaRPr b="0" lang="en-US" sz="4400" spc="-1" strike="noStrike">
              <a:solidFill>
                <a:srgbClr val="333399"/>
              </a:solidFill>
              <a:latin typeface="Tahoma"/>
            </a:endParaRPr>
          </a:p>
        </p:txBody>
      </p:sp>
      <p:sp>
        <p:nvSpPr>
          <p:cNvPr id="183" name="PlaceHolder 2"/>
          <p:cNvSpPr>
            <a:spLocks noGrp="1"/>
          </p:cNvSpPr>
          <p:nvPr>
            <p:ph/>
          </p:nvPr>
        </p:nvSpPr>
        <p:spPr>
          <a:xfrm>
            <a:off x="533520" y="2286000"/>
            <a:ext cx="7772400" cy="35812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had an amazingly solution-focused approach to lif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gospels Jesus says “nothing is impossible with God” or “all things are possible with God” a total of nine time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finds solutions for blind people, lepers, demon-possessed Legion, Lazarus in the grave, five thousand hungry listeners and a boat full of disciples on a stormy sea.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ever the problem there was always a solution and the solution always gave glory to God. The faith of Jesus searched for, found and activated solutio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85" name="PlaceHolder 2"/>
          <p:cNvSpPr>
            <a:spLocks noGrp="1"/>
          </p:cNvSpPr>
          <p:nvPr>
            <p:ph/>
          </p:nvPr>
        </p:nvSpPr>
        <p:spPr>
          <a:xfrm>
            <a:off x="304920" y="2209320"/>
            <a:ext cx="8534160" cy="4419720"/>
          </a:xfrm>
          <a:prstGeom prst="rect">
            <a:avLst/>
          </a:prstGeom>
          <a:noFill/>
          <a:ln w="0">
            <a:noFill/>
          </a:ln>
        </p:spPr>
        <p:txBody>
          <a:bodyPr lIns="90000" rIns="90000" tIns="46800" bIns="46800" anchor="t">
            <a:normAutofit fontScale="96000"/>
          </a:bodyPr>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re to move away from the visceral and self-defeating reactions of the fight or flight response to the noble, practical, solution-focused and faith-filled responses of the sanctified believer.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y is the balanced command of our consciousness in every situation so that we act according to the will of God.</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strument for doing this is the mind. The mind is the only part of our consciousness that we can focus and deploy.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use it to stop automatic responses and to master our emotions.</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can focus the mind on God and things above and be connected to His eternal power.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use the mind to give us poise and power when we face our fears.</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search for positive faith-filled solutions to pressing needs so as to give glory to God.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y can be practiced and is greatly assisted by solution-focussed thinking.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in</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sis 4:3-8 NASB)  So it came about in the course of time that Cain brought an offering to the LORD of the fruit of the ground. {4} And Abel, on his part also brought of the firstlings of his flock and of their fat portions. And the LORD had regard for Abel and for his offering; {5} but for Cain and for his offering He had no regard.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o Cain became very angry</a:t>
            </a:r>
            <a:r>
              <a:rPr b="0" lang="en-US" sz="2000" spc="-1" strike="noStrike">
                <a:solidFill>
                  <a:srgbClr val="000000"/>
                </a:solidFill>
                <a:latin typeface="Tahoma"/>
              </a:rPr>
              <a:t> and his countenance fell. {6} Then the LORD said to Cain, "Why are you angry? And why has your countenance fallen? {7} "If you do well, will not your countenance be lifted up? </a:t>
            </a:r>
            <a:r>
              <a:rPr b="0" lang="en-US" sz="2000" spc="-1" strike="noStrike">
                <a:solidFill>
                  <a:srgbClr val="333399"/>
                </a:solidFill>
                <a:latin typeface="Tahoma"/>
              </a:rPr>
              <a:t>And if you do not do well, sin is crouching at the door; and its desire is for you, but you must </a:t>
            </a:r>
            <a:r>
              <a:rPr b="1" i="1" lang="en-US" sz="2000" spc="-1" strike="noStrike">
                <a:solidFill>
                  <a:srgbClr val="333399"/>
                </a:solidFill>
                <a:latin typeface="Tahoma"/>
              </a:rPr>
              <a:t>master it</a:t>
            </a:r>
            <a:r>
              <a:rPr b="0" lang="en-US" sz="2000" spc="-1" strike="noStrike">
                <a:solidFill>
                  <a:srgbClr val="333399"/>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And Cain told Abel his brother. And it came about when they were in the field, that Cain rose up against Abel his brother and killed him.</a:t>
            </a: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oad Rage &amp; Agoraphobia</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ad Rage results when the “fight” response is triggered by a minor stimulu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oraphobia results when the “flight” response becomes over-activated and leads to panic attack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ppropriate aggression and inappropriate fears and “flight” responses are almost in epidemic proportions in many countr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otional self-control and mastery is need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mp; Mastery</a:t>
            </a:r>
            <a:endParaRPr b="0" lang="en-US" sz="4400" spc="-1" strike="noStrike">
              <a:solidFill>
                <a:srgbClr val="333399"/>
              </a:solidFill>
              <a:latin typeface="Tahoma"/>
            </a:endParaRPr>
          </a:p>
        </p:txBody>
      </p:sp>
      <p:sp>
        <p:nvSpPr>
          <p:cNvPr id="113" name="PlaceHolder 2"/>
          <p:cNvSpPr>
            <a:spLocks noGrp="1"/>
          </p:cNvSpPr>
          <p:nvPr>
            <p:ph/>
          </p:nvPr>
        </p:nvSpPr>
        <p:spPr>
          <a:xfrm>
            <a:off x="533160" y="2057400"/>
            <a:ext cx="8458200" cy="40384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demonstrated mastery of any and every situation He was presented with. At no point in His life did Jesus give in to the adrenalin-filled panic of a fight or flight respons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neither fought the soldiers who arrested him or fled them. Throughout His entire trial demonstrated an amazing degree of personal mastery.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actions were masterful, strong, wise and spiritual.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Spirit-filled mind had total mastery over His flesh and His instinct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gave Him power, poise and a degree of personal authority that seems to have been the main aspect of His personality that people admired and is frequently commented on in the gospels. (Matthew 7:29, 8:9, 21:23-27, 28:18-20, Mark 1:27, Luke 4:32, Luke 9:1, 10;19, John 5:27, 7:17, 12:49, 14:10, 16:13, 17:2)</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vs. Satan</a:t>
            </a:r>
            <a:endParaRPr b="0" lang="en-US" sz="4400" spc="-1" strike="noStrike">
              <a:solidFill>
                <a:srgbClr val="333399"/>
              </a:solidFill>
              <a:latin typeface="Tahoma"/>
            </a:endParaRPr>
          </a:p>
        </p:txBody>
      </p:sp>
      <p:sp>
        <p:nvSpPr>
          <p:cNvPr id="115" name="PlaceHolder 2"/>
          <p:cNvSpPr>
            <a:spLocks noGrp="1"/>
          </p:cNvSpPr>
          <p:nvPr>
            <p:ph/>
          </p:nvPr>
        </p:nvSpPr>
        <p:spPr>
          <a:xfrm>
            <a:off x="609480" y="2285640"/>
            <a:ext cx="7772400" cy="396252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was not thrown even by encountering the Devil in person.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ring the temptation in the wilderness Jesus met the Devil in a face-to-face spiritual encounter of incredible intensity.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neither fled nor fought. Jesus mastered the situation, resisted the temptations and used His authority to deal with the problem.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mastered the temptation to avoid the encounter and thus preserve himself from possible spiritual harm. He faced the dangers of the Devil at full force. He stood His ground against pure evi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so Jesus did not launch into an aggressive tirade against Satan. There was no raw and red-necked stream of spiritual vitriol directed against the Devi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ead Jesus defeated Satan through the calm use of God’s authority based on God’s Word. Jesus mastered the situat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eatening Situations</a:t>
            </a:r>
            <a:endParaRPr b="0" lang="en-US" sz="4400" spc="-1" strike="noStrike">
              <a:solidFill>
                <a:srgbClr val="333399"/>
              </a:solidFill>
              <a:latin typeface="Tahoma"/>
            </a:endParaRPr>
          </a:p>
        </p:txBody>
      </p:sp>
      <p:sp>
        <p:nvSpPr>
          <p:cNvPr id="117" name="PlaceHolder 2"/>
          <p:cNvSpPr>
            <a:spLocks noGrp="1"/>
          </p:cNvSpPr>
          <p:nvPr>
            <p:ph/>
          </p:nvPr>
        </p:nvSpPr>
        <p:spPr>
          <a:xfrm>
            <a:off x="380880" y="2286000"/>
            <a:ext cx="7772400" cy="41911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iblical example of Jesus in the wilderness shows us how to react - even if we think a situation is utterly evil and threatens our health, identity and success (as the wilderness temptations did for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do not need to get upset and become reactiv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r do we need to pack our bags and ru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just need to calmly and authoritatively expose that situation to the truth of Scripture and the authority of God. </a:t>
            </a:r>
            <a:endParaRPr b="0" lang="en-US" sz="1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want to end up moving through life as Jesus moved through Israel, and cope with our pressures and threats as He did.</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3T04:58:11Z</dcterms:created>
  <dc:creator>John Edmiston</dc:creator>
  <dc:description/>
  <dc:language>en-US</dc:language>
  <cp:lastModifiedBy>John Edmiston</cp:lastModifiedBy>
  <dcterms:modified xsi:type="dcterms:W3CDTF">2004-05-01T15:51:35Z</dcterms:modified>
  <cp:revision>63</cp:revision>
  <dc:subject/>
  <dc:title>Biblical EQ www.aibi.ph/beq/</dc:title>
</cp:coreProperties>
</file>