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4E4-15A4-424A-81BF-935AC73D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D06A-8860-44FF-929E-49D9B1A7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2BB-8252-4ADC-870C-C965CD2D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923-12EA-4DE3-9F9C-8E2579D5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37BF-E13F-4F2F-B3CB-3D565388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D42-8D98-47C4-B13E-D38B5C03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69F-E478-490A-B0A7-1FDA35CF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4FF-639A-4ADD-ABAE-B3BD5C3D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492-AE99-40DF-A9C3-A42CA28C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34A3-A155-4A89-A29F-F3473134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307-749C-4061-8C99-F5ECD500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E68-783F-4DA3-8B0E-F28450DC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3411-5712-40C6-8D9E-B2DD4FCE6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445000"/>
          <a:ext cx="99036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445000"/>
                    <a:ext cx="9903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61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523880" y="3733920"/>
            <a:ext cx="6553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ther Christian Issu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44480" y="2174760"/>
            <a:ext cx="5853240" cy="2508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THE CHURCH SHOULD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SALT AND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IN A WORLD THA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DARK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HAS LOST 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22T09:31:48Z</dcterms:modified>
  <cp:revision>263</cp:revision>
  <dc:subject/>
  <dc:title>No Slide Title</dc:title>
</cp:coreProperties>
</file>