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4BD-FCB8-48EB-B754-F2ED77CC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BE1-8FF7-413A-8246-A84B089A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74D-CF40-4740-ABC0-32EDA590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74A-7311-4CC1-81A7-0D88EC30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020-6322-44C4-82C9-7045FAF3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A70-029A-44C3-99D1-53FDCFF2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FE7-A751-43C9-AF2B-E5D08C60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56A-E214-4CCD-A102-3C1C1E7A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ABD-3FC9-4D05-B5FE-850E2FF2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CEF-C6A0-4FBF-BB8B-F3A04E87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6D6-8D35-4F38-991B-6AD4DEB9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BFE-EFA4-4A1D-B484-747A83E8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308-1976-4521-9C78-EE70464F7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276720"/>
            <a:ext cx="6553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uggestions f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urch Invol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39000" y="665280"/>
            <a:ext cx="81784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902444"/>
                </a:solidFill>
                <a:latin typeface="Geometr231 Hv BT"/>
              </a:rPr>
              <a:t>CHURCH INVOLVEMENT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133720"/>
            <a:ext cx="61722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1. Preven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2. Education /Train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3. Care-Giv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74520" y="4584600"/>
            <a:ext cx="65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28200" y="5494320"/>
            <a:ext cx="165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8:10Z</dcterms:modified>
  <cp:revision>263</cp:revision>
  <dc:subject/>
  <dc:title>No Slide Title</dc:title>
</cp:coreProperties>
</file>