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DD2-4A92-42F4-893C-294EBC0F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D24-3FC1-46AF-8F57-9AFD897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B9E-3D0D-43B2-903E-E3216814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A8C-B0ED-4D49-8C4D-C8CCAF65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333-93DA-4C65-8423-52A2F359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90E-EB90-49B7-B2A0-32BF67B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02C-FC49-455F-BA5B-6692A30B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303-994A-4A9D-B73D-D0182007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52A-420A-4B01-A371-743BE0B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A7F-4049-4054-A111-7160954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BDC-9747-4F48-847F-F63879F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337-4AC4-4709-9573-F0FF21F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D45-BFA1-4554-8288-C349F88FB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sic Counsel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28120" y="3581280"/>
            <a:ext cx="39038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1. Suppor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6520" y="4743360"/>
            <a:ext cx="4619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2. Educatio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78000" y="914400"/>
            <a:ext cx="4756320" cy="2071800"/>
            <a:chOff x="2178000" y="914400"/>
            <a:chExt cx="4756320" cy="2071800"/>
          </a:xfrm>
        </p:grpSpPr>
        <p:sp>
          <p:nvSpPr>
            <p:cNvPr id="114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792" y="1331"/>
                  </a:moveTo>
                  <a:lnTo>
                    <a:pt x="1221" y="1331"/>
                  </a:lnTo>
                  <a:lnTo>
                    <a:pt x="1005" y="626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7" y="580"/>
                  </a:moveTo>
                  <a:lnTo>
                    <a:pt x="1031" y="581"/>
                  </a:lnTo>
                  <a:lnTo>
                    <a:pt x="1006" y="583"/>
                  </a:lnTo>
                  <a:lnTo>
                    <a:pt x="980" y="585"/>
                  </a:lnTo>
                  <a:lnTo>
                    <a:pt x="955" y="590"/>
                  </a:lnTo>
                  <a:lnTo>
                    <a:pt x="932" y="595"/>
                  </a:lnTo>
                  <a:lnTo>
                    <a:pt x="909" y="601"/>
                  </a:lnTo>
                  <a:lnTo>
                    <a:pt x="885" y="609"/>
                  </a:lnTo>
                  <a:lnTo>
                    <a:pt x="863" y="618"/>
                  </a:lnTo>
                  <a:lnTo>
                    <a:pt x="842" y="628"/>
                  </a:lnTo>
                  <a:lnTo>
                    <a:pt x="821" y="639"/>
                  </a:lnTo>
                  <a:lnTo>
                    <a:pt x="799" y="651"/>
                  </a:lnTo>
                  <a:lnTo>
                    <a:pt x="779" y="664"/>
                  </a:lnTo>
                  <a:lnTo>
                    <a:pt x="759" y="679"/>
                  </a:lnTo>
                  <a:lnTo>
                    <a:pt x="740" y="695"/>
                  </a:lnTo>
                  <a:lnTo>
                    <a:pt x="721" y="711"/>
                  </a:lnTo>
                  <a:lnTo>
                    <a:pt x="704" y="729"/>
                  </a:lnTo>
                  <a:lnTo>
                    <a:pt x="687" y="748"/>
                  </a:lnTo>
                  <a:lnTo>
                    <a:pt x="670" y="767"/>
                  </a:lnTo>
                  <a:lnTo>
                    <a:pt x="656" y="787"/>
                  </a:lnTo>
                  <a:lnTo>
                    <a:pt x="641" y="809"/>
                  </a:lnTo>
                  <a:lnTo>
                    <a:pt x="629" y="829"/>
                  </a:lnTo>
                  <a:lnTo>
                    <a:pt x="617" y="851"/>
                  </a:lnTo>
                  <a:lnTo>
                    <a:pt x="607" y="873"/>
                  </a:lnTo>
                  <a:lnTo>
                    <a:pt x="597" y="896"/>
                  </a:lnTo>
                  <a:lnTo>
                    <a:pt x="589" y="919"/>
                  </a:lnTo>
                  <a:lnTo>
                    <a:pt x="581" y="943"/>
                  </a:lnTo>
                  <a:lnTo>
                    <a:pt x="575" y="967"/>
                  </a:lnTo>
                  <a:lnTo>
                    <a:pt x="570" y="993"/>
                  </a:lnTo>
                  <a:lnTo>
                    <a:pt x="566" y="1017"/>
                  </a:lnTo>
                  <a:lnTo>
                    <a:pt x="563" y="1044"/>
                  </a:lnTo>
                  <a:lnTo>
                    <a:pt x="562" y="1071"/>
                  </a:lnTo>
                  <a:lnTo>
                    <a:pt x="561" y="1098"/>
                  </a:lnTo>
                  <a:lnTo>
                    <a:pt x="562" y="1125"/>
                  </a:lnTo>
                  <a:lnTo>
                    <a:pt x="563" y="1151"/>
                  </a:lnTo>
                  <a:lnTo>
                    <a:pt x="566" y="1177"/>
                  </a:lnTo>
                  <a:lnTo>
                    <a:pt x="570" y="1203"/>
                  </a:lnTo>
                  <a:lnTo>
                    <a:pt x="575" y="1228"/>
                  </a:lnTo>
                  <a:lnTo>
                    <a:pt x="581" y="1252"/>
                  </a:lnTo>
                  <a:lnTo>
                    <a:pt x="589" y="1276"/>
                  </a:lnTo>
                  <a:lnTo>
                    <a:pt x="597" y="1300"/>
                  </a:lnTo>
                  <a:lnTo>
                    <a:pt x="607" y="1322"/>
                  </a:lnTo>
                  <a:lnTo>
                    <a:pt x="617" y="1345"/>
                  </a:lnTo>
                  <a:lnTo>
                    <a:pt x="628" y="1366"/>
                  </a:lnTo>
                  <a:lnTo>
                    <a:pt x="641" y="1387"/>
                  </a:lnTo>
                  <a:lnTo>
                    <a:pt x="655" y="1407"/>
                  </a:lnTo>
                  <a:lnTo>
                    <a:pt x="670" y="1427"/>
                  </a:lnTo>
                  <a:lnTo>
                    <a:pt x="686" y="1446"/>
                  </a:lnTo>
                  <a:lnTo>
                    <a:pt x="704" y="1465"/>
                  </a:lnTo>
                  <a:lnTo>
                    <a:pt x="721" y="1483"/>
                  </a:lnTo>
                  <a:lnTo>
                    <a:pt x="739" y="1500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9" y="1556"/>
                  </a:lnTo>
                  <a:lnTo>
                    <a:pt x="841" y="1567"/>
                  </a:lnTo>
                  <a:lnTo>
                    <a:pt x="862" y="1577"/>
                  </a:lnTo>
                  <a:lnTo>
                    <a:pt x="884" y="1586"/>
                  </a:lnTo>
                  <a:lnTo>
                    <a:pt x="907" y="1592"/>
                  </a:lnTo>
                  <a:lnTo>
                    <a:pt x="931" y="1599"/>
                  </a:lnTo>
                  <a:lnTo>
                    <a:pt x="955" y="1605"/>
                  </a:lnTo>
                  <a:lnTo>
                    <a:pt x="980" y="1609"/>
                  </a:lnTo>
                  <a:lnTo>
                    <a:pt x="1004" y="1611"/>
                  </a:lnTo>
                  <a:lnTo>
                    <a:pt x="1030" y="1614"/>
                  </a:lnTo>
                  <a:lnTo>
                    <a:pt x="1057" y="1614"/>
                  </a:lnTo>
                  <a:lnTo>
                    <a:pt x="1082" y="1614"/>
                  </a:lnTo>
                  <a:lnTo>
                    <a:pt x="1108" y="1611"/>
                  </a:lnTo>
                  <a:lnTo>
                    <a:pt x="1134" y="1609"/>
                  </a:lnTo>
                  <a:lnTo>
                    <a:pt x="1158" y="1605"/>
                  </a:lnTo>
                  <a:lnTo>
                    <a:pt x="1182" y="1599"/>
                  </a:lnTo>
                  <a:lnTo>
                    <a:pt x="1205" y="1592"/>
                  </a:lnTo>
                  <a:lnTo>
                    <a:pt x="1227" y="1586"/>
                  </a:lnTo>
                  <a:lnTo>
                    <a:pt x="1251" y="1577"/>
                  </a:lnTo>
                  <a:lnTo>
                    <a:pt x="1272" y="1567"/>
                  </a:lnTo>
                  <a:lnTo>
                    <a:pt x="1293" y="1556"/>
                  </a:lnTo>
                  <a:lnTo>
                    <a:pt x="1314" y="1543"/>
                  </a:lnTo>
                  <a:lnTo>
                    <a:pt x="1334" y="1530"/>
                  </a:lnTo>
                  <a:lnTo>
                    <a:pt x="1353" y="1515"/>
                  </a:lnTo>
                  <a:lnTo>
                    <a:pt x="1373" y="1500"/>
                  </a:lnTo>
                  <a:lnTo>
                    <a:pt x="1391" y="1483"/>
                  </a:lnTo>
                  <a:lnTo>
                    <a:pt x="1410" y="1465"/>
                  </a:lnTo>
                  <a:lnTo>
                    <a:pt x="1427" y="1446"/>
                  </a:lnTo>
                  <a:lnTo>
                    <a:pt x="1443" y="1427"/>
                  </a:lnTo>
                  <a:lnTo>
                    <a:pt x="1458" y="1407"/>
                  </a:lnTo>
                  <a:lnTo>
                    <a:pt x="1472" y="1386"/>
                  </a:lnTo>
                  <a:lnTo>
                    <a:pt x="1485" y="1365"/>
                  </a:lnTo>
                  <a:lnTo>
                    <a:pt x="1496" y="1343"/>
                  </a:lnTo>
                  <a:lnTo>
                    <a:pt x="1507" y="1321"/>
                  </a:lnTo>
                  <a:lnTo>
                    <a:pt x="1516" y="1299"/>
                  </a:lnTo>
                  <a:lnTo>
                    <a:pt x="1525" y="1275"/>
                  </a:lnTo>
                  <a:lnTo>
                    <a:pt x="1532" y="1252"/>
                  </a:lnTo>
                  <a:lnTo>
                    <a:pt x="1538" y="1227"/>
                  </a:lnTo>
                  <a:lnTo>
                    <a:pt x="1543" y="1203"/>
                  </a:lnTo>
                  <a:lnTo>
                    <a:pt x="1547" y="1177"/>
                  </a:lnTo>
                  <a:lnTo>
                    <a:pt x="1549" y="1151"/>
                  </a:lnTo>
                  <a:lnTo>
                    <a:pt x="1552" y="1125"/>
                  </a:lnTo>
                  <a:lnTo>
                    <a:pt x="1552" y="1098"/>
                  </a:lnTo>
                  <a:lnTo>
                    <a:pt x="1552" y="1071"/>
                  </a:lnTo>
                  <a:lnTo>
                    <a:pt x="1549" y="1044"/>
                  </a:lnTo>
                  <a:lnTo>
                    <a:pt x="1547" y="1018"/>
                  </a:lnTo>
                  <a:lnTo>
                    <a:pt x="1543" y="993"/>
                  </a:lnTo>
                  <a:lnTo>
                    <a:pt x="1538" y="968"/>
                  </a:lnTo>
                  <a:lnTo>
                    <a:pt x="1532" y="944"/>
                  </a:lnTo>
                  <a:lnTo>
                    <a:pt x="1525" y="920"/>
                  </a:lnTo>
                  <a:lnTo>
                    <a:pt x="1516" y="897"/>
                  </a:lnTo>
                  <a:lnTo>
                    <a:pt x="1507" y="874"/>
                  </a:lnTo>
                  <a:lnTo>
                    <a:pt x="1496" y="852"/>
                  </a:lnTo>
                  <a:lnTo>
                    <a:pt x="1485" y="831"/>
                  </a:lnTo>
                  <a:lnTo>
                    <a:pt x="1472" y="810"/>
                  </a:lnTo>
                  <a:lnTo>
                    <a:pt x="1458" y="788"/>
                  </a:lnTo>
                  <a:lnTo>
                    <a:pt x="1443" y="768"/>
                  </a:lnTo>
                  <a:lnTo>
                    <a:pt x="1427" y="749"/>
                  </a:lnTo>
                  <a:lnTo>
                    <a:pt x="1410" y="730"/>
                  </a:lnTo>
                  <a:lnTo>
                    <a:pt x="1391" y="711"/>
                  </a:lnTo>
                  <a:lnTo>
                    <a:pt x="1373" y="695"/>
                  </a:lnTo>
                  <a:lnTo>
                    <a:pt x="1353" y="679"/>
                  </a:lnTo>
                  <a:lnTo>
                    <a:pt x="1334" y="664"/>
                  </a:lnTo>
                  <a:lnTo>
                    <a:pt x="1314" y="651"/>
                  </a:lnTo>
                  <a:lnTo>
                    <a:pt x="1293" y="639"/>
                  </a:lnTo>
                  <a:lnTo>
                    <a:pt x="1272" y="628"/>
                  </a:lnTo>
                  <a:lnTo>
                    <a:pt x="1251" y="618"/>
                  </a:lnTo>
                  <a:lnTo>
                    <a:pt x="1227" y="609"/>
                  </a:lnTo>
                  <a:lnTo>
                    <a:pt x="1205" y="601"/>
                  </a:lnTo>
                  <a:lnTo>
                    <a:pt x="1182" y="595"/>
                  </a:lnTo>
                  <a:lnTo>
                    <a:pt x="1158" y="590"/>
                  </a:lnTo>
                  <a:lnTo>
                    <a:pt x="1134" y="585"/>
                  </a:lnTo>
                  <a:lnTo>
                    <a:pt x="1108" y="583"/>
                  </a:lnTo>
                  <a:lnTo>
                    <a:pt x="1082" y="581"/>
                  </a:lnTo>
                  <a:lnTo>
                    <a:pt x="1057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1095480"/>
              <a:ext cx="114120" cy="185760"/>
            </a:xfrm>
            <a:custGeom>
              <a:avLst/>
              <a:gdLst/>
              <a:ahLst/>
              <a:rect l="l" t="t" r="r" b="b"/>
              <a:pathLst>
                <a:path w="429" h="705">
                  <a:moveTo>
                    <a:pt x="0" y="705"/>
                  </a:moveTo>
                  <a:lnTo>
                    <a:pt x="429" y="705"/>
                  </a:lnTo>
                  <a:lnTo>
                    <a:pt x="213" y="0"/>
                  </a:lnTo>
                  <a:lnTo>
                    <a:pt x="0" y="70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8440" y="1068480"/>
              <a:ext cx="261720" cy="272880"/>
            </a:xfrm>
            <a:custGeom>
              <a:avLst/>
              <a:gdLst/>
              <a:ahLst/>
              <a:rect l="l" t="t" r="r" b="b"/>
              <a:pathLst>
                <a:path w="991" h="1034">
                  <a:moveTo>
                    <a:pt x="496" y="0"/>
                  </a:moveTo>
                  <a:lnTo>
                    <a:pt x="470" y="1"/>
                  </a:lnTo>
                  <a:lnTo>
                    <a:pt x="445" y="3"/>
                  </a:lnTo>
                  <a:lnTo>
                    <a:pt x="419" y="5"/>
                  </a:lnTo>
                  <a:lnTo>
                    <a:pt x="394" y="10"/>
                  </a:lnTo>
                  <a:lnTo>
                    <a:pt x="371" y="15"/>
                  </a:lnTo>
                  <a:lnTo>
                    <a:pt x="348" y="21"/>
                  </a:lnTo>
                  <a:lnTo>
                    <a:pt x="324" y="29"/>
                  </a:lnTo>
                  <a:lnTo>
                    <a:pt x="302" y="38"/>
                  </a:lnTo>
                  <a:lnTo>
                    <a:pt x="281" y="48"/>
                  </a:lnTo>
                  <a:lnTo>
                    <a:pt x="260" y="59"/>
                  </a:lnTo>
                  <a:lnTo>
                    <a:pt x="238" y="71"/>
                  </a:lnTo>
                  <a:lnTo>
                    <a:pt x="218" y="84"/>
                  </a:lnTo>
                  <a:lnTo>
                    <a:pt x="198" y="99"/>
                  </a:lnTo>
                  <a:lnTo>
                    <a:pt x="179" y="115"/>
                  </a:lnTo>
                  <a:lnTo>
                    <a:pt x="160" y="131"/>
                  </a:lnTo>
                  <a:lnTo>
                    <a:pt x="143" y="149"/>
                  </a:lnTo>
                  <a:lnTo>
                    <a:pt x="126" y="168"/>
                  </a:lnTo>
                  <a:lnTo>
                    <a:pt x="109" y="187"/>
                  </a:lnTo>
                  <a:lnTo>
                    <a:pt x="95" y="207"/>
                  </a:lnTo>
                  <a:lnTo>
                    <a:pt x="80" y="229"/>
                  </a:lnTo>
                  <a:lnTo>
                    <a:pt x="68" y="249"/>
                  </a:lnTo>
                  <a:lnTo>
                    <a:pt x="56" y="271"/>
                  </a:lnTo>
                  <a:lnTo>
                    <a:pt x="46" y="293"/>
                  </a:lnTo>
                  <a:lnTo>
                    <a:pt x="36" y="316"/>
                  </a:lnTo>
                  <a:lnTo>
                    <a:pt x="28" y="339"/>
                  </a:lnTo>
                  <a:lnTo>
                    <a:pt x="20" y="363"/>
                  </a:lnTo>
                  <a:lnTo>
                    <a:pt x="14" y="387"/>
                  </a:lnTo>
                  <a:lnTo>
                    <a:pt x="9" y="413"/>
                  </a:lnTo>
                  <a:lnTo>
                    <a:pt x="5" y="437"/>
                  </a:lnTo>
                  <a:lnTo>
                    <a:pt x="2" y="464"/>
                  </a:lnTo>
                  <a:lnTo>
                    <a:pt x="1" y="491"/>
                  </a:lnTo>
                  <a:lnTo>
                    <a:pt x="0" y="518"/>
                  </a:lnTo>
                  <a:lnTo>
                    <a:pt x="1" y="545"/>
                  </a:lnTo>
                  <a:lnTo>
                    <a:pt x="2" y="571"/>
                  </a:lnTo>
                  <a:lnTo>
                    <a:pt x="5" y="597"/>
                  </a:lnTo>
                  <a:lnTo>
                    <a:pt x="9" y="623"/>
                  </a:lnTo>
                  <a:lnTo>
                    <a:pt x="14" y="648"/>
                  </a:lnTo>
                  <a:lnTo>
                    <a:pt x="20" y="672"/>
                  </a:lnTo>
                  <a:lnTo>
                    <a:pt x="28" y="696"/>
                  </a:lnTo>
                  <a:lnTo>
                    <a:pt x="36" y="720"/>
                  </a:lnTo>
                  <a:lnTo>
                    <a:pt x="46" y="742"/>
                  </a:lnTo>
                  <a:lnTo>
                    <a:pt x="56" y="765"/>
                  </a:lnTo>
                  <a:lnTo>
                    <a:pt x="67" y="786"/>
                  </a:lnTo>
                  <a:lnTo>
                    <a:pt x="80" y="807"/>
                  </a:lnTo>
                  <a:lnTo>
                    <a:pt x="94" y="827"/>
                  </a:lnTo>
                  <a:lnTo>
                    <a:pt x="109" y="847"/>
                  </a:lnTo>
                  <a:lnTo>
                    <a:pt x="125" y="866"/>
                  </a:lnTo>
                  <a:lnTo>
                    <a:pt x="143" y="885"/>
                  </a:lnTo>
                  <a:lnTo>
                    <a:pt x="160" y="903"/>
                  </a:lnTo>
                  <a:lnTo>
                    <a:pt x="178" y="920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8" y="976"/>
                  </a:lnTo>
                  <a:lnTo>
                    <a:pt x="280" y="987"/>
                  </a:lnTo>
                  <a:lnTo>
                    <a:pt x="301" y="997"/>
                  </a:lnTo>
                  <a:lnTo>
                    <a:pt x="323" y="1006"/>
                  </a:lnTo>
                  <a:lnTo>
                    <a:pt x="346" y="1012"/>
                  </a:lnTo>
                  <a:lnTo>
                    <a:pt x="370" y="1019"/>
                  </a:lnTo>
                  <a:lnTo>
                    <a:pt x="394" y="1025"/>
                  </a:lnTo>
                  <a:lnTo>
                    <a:pt x="419" y="1029"/>
                  </a:lnTo>
                  <a:lnTo>
                    <a:pt x="443" y="1031"/>
                  </a:lnTo>
                  <a:lnTo>
                    <a:pt x="469" y="1034"/>
                  </a:lnTo>
                  <a:lnTo>
                    <a:pt x="496" y="1034"/>
                  </a:lnTo>
                  <a:lnTo>
                    <a:pt x="521" y="1034"/>
                  </a:lnTo>
                  <a:lnTo>
                    <a:pt x="547" y="1031"/>
                  </a:lnTo>
                  <a:lnTo>
                    <a:pt x="573" y="1029"/>
                  </a:lnTo>
                  <a:lnTo>
                    <a:pt x="597" y="1025"/>
                  </a:lnTo>
                  <a:lnTo>
                    <a:pt x="621" y="1019"/>
                  </a:lnTo>
                  <a:lnTo>
                    <a:pt x="644" y="1012"/>
                  </a:lnTo>
                  <a:lnTo>
                    <a:pt x="666" y="1006"/>
                  </a:lnTo>
                  <a:lnTo>
                    <a:pt x="690" y="997"/>
                  </a:lnTo>
                  <a:lnTo>
                    <a:pt x="711" y="987"/>
                  </a:lnTo>
                  <a:lnTo>
                    <a:pt x="732" y="976"/>
                  </a:lnTo>
                  <a:lnTo>
                    <a:pt x="753" y="963"/>
                  </a:lnTo>
                  <a:lnTo>
                    <a:pt x="773" y="950"/>
                  </a:lnTo>
                  <a:lnTo>
                    <a:pt x="792" y="935"/>
                  </a:lnTo>
                  <a:lnTo>
                    <a:pt x="812" y="920"/>
                  </a:lnTo>
                  <a:lnTo>
                    <a:pt x="830" y="903"/>
                  </a:lnTo>
                  <a:lnTo>
                    <a:pt x="849" y="885"/>
                  </a:lnTo>
                  <a:lnTo>
                    <a:pt x="866" y="866"/>
                  </a:lnTo>
                  <a:lnTo>
                    <a:pt x="882" y="847"/>
                  </a:lnTo>
                  <a:lnTo>
                    <a:pt x="897" y="827"/>
                  </a:lnTo>
                  <a:lnTo>
                    <a:pt x="911" y="806"/>
                  </a:lnTo>
                  <a:lnTo>
                    <a:pt x="924" y="785"/>
                  </a:lnTo>
                  <a:lnTo>
                    <a:pt x="935" y="763"/>
                  </a:lnTo>
                  <a:lnTo>
                    <a:pt x="946" y="741"/>
                  </a:lnTo>
                  <a:lnTo>
                    <a:pt x="955" y="719"/>
                  </a:lnTo>
                  <a:lnTo>
                    <a:pt x="964" y="695"/>
                  </a:lnTo>
                  <a:lnTo>
                    <a:pt x="971" y="672"/>
                  </a:lnTo>
                  <a:lnTo>
                    <a:pt x="977" y="647"/>
                  </a:lnTo>
                  <a:lnTo>
                    <a:pt x="982" y="623"/>
                  </a:lnTo>
                  <a:lnTo>
                    <a:pt x="986" y="597"/>
                  </a:lnTo>
                  <a:lnTo>
                    <a:pt x="988" y="571"/>
                  </a:lnTo>
                  <a:lnTo>
                    <a:pt x="991" y="545"/>
                  </a:lnTo>
                  <a:lnTo>
                    <a:pt x="991" y="518"/>
                  </a:lnTo>
                  <a:lnTo>
                    <a:pt x="991" y="491"/>
                  </a:lnTo>
                  <a:lnTo>
                    <a:pt x="988" y="464"/>
                  </a:lnTo>
                  <a:lnTo>
                    <a:pt x="986" y="438"/>
                  </a:lnTo>
                  <a:lnTo>
                    <a:pt x="982" y="413"/>
                  </a:lnTo>
                  <a:lnTo>
                    <a:pt x="977" y="388"/>
                  </a:lnTo>
                  <a:lnTo>
                    <a:pt x="971" y="364"/>
                  </a:lnTo>
                  <a:lnTo>
                    <a:pt x="964" y="340"/>
                  </a:lnTo>
                  <a:lnTo>
                    <a:pt x="955" y="317"/>
                  </a:lnTo>
                  <a:lnTo>
                    <a:pt x="946" y="294"/>
                  </a:lnTo>
                  <a:lnTo>
                    <a:pt x="935" y="272"/>
                  </a:lnTo>
                  <a:lnTo>
                    <a:pt x="924" y="251"/>
                  </a:lnTo>
                  <a:lnTo>
                    <a:pt x="911" y="230"/>
                  </a:lnTo>
                  <a:lnTo>
                    <a:pt x="897" y="208"/>
                  </a:lnTo>
                  <a:lnTo>
                    <a:pt x="882" y="188"/>
                  </a:lnTo>
                  <a:lnTo>
                    <a:pt x="866" y="169"/>
                  </a:lnTo>
                  <a:lnTo>
                    <a:pt x="849" y="150"/>
                  </a:lnTo>
                  <a:lnTo>
                    <a:pt x="830" y="131"/>
                  </a:lnTo>
                  <a:lnTo>
                    <a:pt x="812" y="115"/>
                  </a:lnTo>
                  <a:lnTo>
                    <a:pt x="792" y="99"/>
                  </a:lnTo>
                  <a:lnTo>
                    <a:pt x="773" y="84"/>
                  </a:lnTo>
                  <a:lnTo>
                    <a:pt x="753" y="71"/>
                  </a:lnTo>
                  <a:lnTo>
                    <a:pt x="732" y="59"/>
                  </a:lnTo>
                  <a:lnTo>
                    <a:pt x="711" y="48"/>
                  </a:lnTo>
                  <a:lnTo>
                    <a:pt x="690" y="38"/>
                  </a:lnTo>
                  <a:lnTo>
                    <a:pt x="666" y="29"/>
                  </a:lnTo>
                  <a:lnTo>
                    <a:pt x="644" y="21"/>
                  </a:lnTo>
                  <a:lnTo>
                    <a:pt x="621" y="15"/>
                  </a:lnTo>
                  <a:lnTo>
                    <a:pt x="597" y="10"/>
                  </a:lnTo>
                  <a:lnTo>
                    <a:pt x="573" y="5"/>
                  </a:lnTo>
                  <a:lnTo>
                    <a:pt x="547" y="3"/>
                  </a:lnTo>
                  <a:lnTo>
                    <a:pt x="521" y="1"/>
                  </a:lnTo>
                  <a:lnTo>
                    <a:pt x="49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1680" y="183996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8480" y="181620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2560" y="255744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51240" y="3276720"/>
            <a:ext cx="394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1. Pre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9040" y="4476600"/>
            <a:ext cx="433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2. Post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78000" y="1295280"/>
            <a:ext cx="4756320" cy="1320840"/>
            <a:chOff x="2178000" y="1295280"/>
            <a:chExt cx="4756320" cy="1320840"/>
          </a:xfrm>
        </p:grpSpPr>
        <p:sp>
          <p:nvSpPr>
            <p:cNvPr id="172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1680" y="146988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8480" y="144612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2560" y="218736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14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17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20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23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26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29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32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35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38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34640" y="757080"/>
            <a:ext cx="5181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FEELING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42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45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48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51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54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57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60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63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66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47480" y="878040"/>
            <a:ext cx="8164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FEELINGS OF THE NON-INF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PERSON TOWARD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020400" y="1679400"/>
            <a:ext cx="2507760" cy="1082520"/>
            <a:chOff x="3020400" y="1679400"/>
            <a:chExt cx="2507760" cy="1082520"/>
          </a:xfrm>
        </p:grpSpPr>
        <p:sp>
          <p:nvSpPr>
            <p:cNvPr id="270" name=""/>
            <p:cNvSpPr/>
            <p:nvPr/>
          </p:nvSpPr>
          <p:spPr>
            <a:xfrm>
              <a:off x="3309840" y="1938240"/>
              <a:ext cx="221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appor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0400" y="1679400"/>
              <a:ext cx="5616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17520" y="2759040"/>
            <a:ext cx="3454560" cy="1082520"/>
            <a:chOff x="3017520" y="2759040"/>
            <a:chExt cx="3454560" cy="1082520"/>
          </a:xfrm>
        </p:grpSpPr>
        <p:sp>
          <p:nvSpPr>
            <p:cNvPr id="273" name=""/>
            <p:cNvSpPr/>
            <p:nvPr/>
          </p:nvSpPr>
          <p:spPr>
            <a:xfrm>
              <a:off x="3200760" y="3017880"/>
              <a:ext cx="3271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xplora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7520" y="2759040"/>
              <a:ext cx="5022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5120" y="3838680"/>
            <a:ext cx="2584440" cy="1082520"/>
            <a:chOff x="2985120" y="3838680"/>
            <a:chExt cx="2584440" cy="1082520"/>
          </a:xfrm>
        </p:grpSpPr>
        <p:sp>
          <p:nvSpPr>
            <p:cNvPr id="276" name=""/>
            <p:cNvSpPr/>
            <p:nvPr/>
          </p:nvSpPr>
          <p:spPr>
            <a:xfrm>
              <a:off x="3290400" y="4097160"/>
              <a:ext cx="2279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ecis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5120" y="3838680"/>
              <a:ext cx="65916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D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60360" y="4917960"/>
            <a:ext cx="2025360" cy="1082520"/>
            <a:chOff x="3060360" y="4917960"/>
            <a:chExt cx="2025360" cy="1082520"/>
          </a:xfrm>
        </p:grpSpPr>
        <p:sp>
          <p:nvSpPr>
            <p:cNvPr id="279" name=""/>
            <p:cNvSpPr/>
            <p:nvPr/>
          </p:nvSpPr>
          <p:spPr>
            <a:xfrm>
              <a:off x="3404160" y="5176800"/>
              <a:ext cx="1681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c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360" y="4917960"/>
              <a:ext cx="5767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90" y="706"/>
                </a:moveTo>
                <a:lnTo>
                  <a:pt x="426" y="706"/>
                </a:lnTo>
                <a:lnTo>
                  <a:pt x="452" y="705"/>
                </a:lnTo>
                <a:lnTo>
                  <a:pt x="476" y="703"/>
                </a:lnTo>
                <a:lnTo>
                  <a:pt x="499" y="699"/>
                </a:lnTo>
                <a:lnTo>
                  <a:pt x="519" y="694"/>
                </a:lnTo>
                <a:lnTo>
                  <a:pt x="538" y="687"/>
                </a:lnTo>
                <a:lnTo>
                  <a:pt x="556" y="679"/>
                </a:lnTo>
                <a:lnTo>
                  <a:pt x="572" y="669"/>
                </a:lnTo>
                <a:lnTo>
                  <a:pt x="587" y="659"/>
                </a:lnTo>
                <a:lnTo>
                  <a:pt x="600" y="645"/>
                </a:lnTo>
                <a:lnTo>
                  <a:pt x="610" y="631"/>
                </a:lnTo>
                <a:lnTo>
                  <a:pt x="620" y="617"/>
                </a:lnTo>
                <a:lnTo>
                  <a:pt x="628" y="599"/>
                </a:lnTo>
                <a:lnTo>
                  <a:pt x="634" y="581"/>
                </a:lnTo>
                <a:lnTo>
                  <a:pt x="638" y="562"/>
                </a:lnTo>
                <a:lnTo>
                  <a:pt x="640" y="541"/>
                </a:lnTo>
                <a:lnTo>
                  <a:pt x="641" y="520"/>
                </a:lnTo>
                <a:lnTo>
                  <a:pt x="641" y="497"/>
                </a:lnTo>
                <a:lnTo>
                  <a:pt x="638" y="476"/>
                </a:lnTo>
                <a:lnTo>
                  <a:pt x="634" y="457"/>
                </a:lnTo>
                <a:lnTo>
                  <a:pt x="628" y="438"/>
                </a:lnTo>
                <a:lnTo>
                  <a:pt x="621" y="421"/>
                </a:lnTo>
                <a:lnTo>
                  <a:pt x="612" y="406"/>
                </a:lnTo>
                <a:lnTo>
                  <a:pt x="601" y="391"/>
                </a:lnTo>
                <a:lnTo>
                  <a:pt x="589" y="378"/>
                </a:lnTo>
                <a:lnTo>
                  <a:pt x="575" y="366"/>
                </a:lnTo>
                <a:lnTo>
                  <a:pt x="559" y="357"/>
                </a:lnTo>
                <a:lnTo>
                  <a:pt x="543" y="348"/>
                </a:lnTo>
                <a:lnTo>
                  <a:pt x="525" y="341"/>
                </a:lnTo>
                <a:lnTo>
                  <a:pt x="505" y="337"/>
                </a:lnTo>
                <a:lnTo>
                  <a:pt x="483" y="332"/>
                </a:lnTo>
                <a:lnTo>
                  <a:pt x="461" y="329"/>
                </a:lnTo>
                <a:lnTo>
                  <a:pt x="437" y="329"/>
                </a:lnTo>
                <a:lnTo>
                  <a:pt x="390" y="329"/>
                </a:lnTo>
                <a:lnTo>
                  <a:pt x="390" y="706"/>
                </a:lnTo>
                <a:close/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89" y="1102"/>
                </a:moveTo>
                <a:lnTo>
                  <a:pt x="408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60" y="1089"/>
                </a:lnTo>
                <a:lnTo>
                  <a:pt x="476" y="1084"/>
                </a:lnTo>
                <a:lnTo>
                  <a:pt x="493" y="1078"/>
                </a:lnTo>
                <a:lnTo>
                  <a:pt x="508" y="1072"/>
                </a:lnTo>
                <a:lnTo>
                  <a:pt x="524" y="1066"/>
                </a:lnTo>
                <a:lnTo>
                  <a:pt x="539" y="1058"/>
                </a:lnTo>
                <a:lnTo>
                  <a:pt x="554" y="1051"/>
                </a:lnTo>
                <a:lnTo>
                  <a:pt x="568" y="1042"/>
                </a:lnTo>
                <a:lnTo>
                  <a:pt x="581" y="1033"/>
                </a:lnTo>
                <a:lnTo>
                  <a:pt x="594" y="1023"/>
                </a:lnTo>
                <a:lnTo>
                  <a:pt x="607" y="1013"/>
                </a:lnTo>
                <a:lnTo>
                  <a:pt x="619" y="1001"/>
                </a:lnTo>
                <a:lnTo>
                  <a:pt x="630" y="989"/>
                </a:lnTo>
                <a:lnTo>
                  <a:pt x="640" y="977"/>
                </a:lnTo>
                <a:lnTo>
                  <a:pt x="651" y="965"/>
                </a:lnTo>
                <a:lnTo>
                  <a:pt x="660" y="952"/>
                </a:lnTo>
                <a:lnTo>
                  <a:pt x="670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8" y="850"/>
                </a:lnTo>
                <a:lnTo>
                  <a:pt x="711" y="834"/>
                </a:lnTo>
                <a:lnTo>
                  <a:pt x="715" y="818"/>
                </a:lnTo>
                <a:lnTo>
                  <a:pt x="717" y="801"/>
                </a:lnTo>
                <a:lnTo>
                  <a:pt x="719" y="783"/>
                </a:lnTo>
                <a:lnTo>
                  <a:pt x="720" y="765"/>
                </a:lnTo>
                <a:lnTo>
                  <a:pt x="720" y="748"/>
                </a:lnTo>
                <a:lnTo>
                  <a:pt x="720" y="729"/>
                </a:lnTo>
                <a:lnTo>
                  <a:pt x="719" y="710"/>
                </a:lnTo>
                <a:lnTo>
                  <a:pt x="717" y="692"/>
                </a:lnTo>
                <a:lnTo>
                  <a:pt x="715" y="674"/>
                </a:lnTo>
                <a:lnTo>
                  <a:pt x="711" y="656"/>
                </a:lnTo>
                <a:lnTo>
                  <a:pt x="708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9" y="546"/>
                </a:lnTo>
                <a:lnTo>
                  <a:pt x="659" y="531"/>
                </a:lnTo>
                <a:lnTo>
                  <a:pt x="650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5" y="468"/>
                </a:lnTo>
                <a:lnTo>
                  <a:pt x="592" y="458"/>
                </a:lnTo>
                <a:lnTo>
                  <a:pt x="579" y="448"/>
                </a:lnTo>
                <a:lnTo>
                  <a:pt x="565" y="439"/>
                </a:lnTo>
                <a:lnTo>
                  <a:pt x="551" y="430"/>
                </a:lnTo>
                <a:lnTo>
                  <a:pt x="537" y="423"/>
                </a:lnTo>
                <a:lnTo>
                  <a:pt x="523" y="416"/>
                </a:lnTo>
                <a:lnTo>
                  <a:pt x="507" y="410"/>
                </a:lnTo>
                <a:lnTo>
                  <a:pt x="492" y="406"/>
                </a:lnTo>
                <a:lnTo>
                  <a:pt x="475" y="401"/>
                </a:lnTo>
                <a:lnTo>
                  <a:pt x="459" y="396"/>
                </a:lnTo>
                <a:lnTo>
                  <a:pt x="442" y="394"/>
                </a:lnTo>
                <a:lnTo>
                  <a:pt x="424" y="391"/>
                </a:lnTo>
                <a:lnTo>
                  <a:pt x="406" y="390"/>
                </a:lnTo>
                <a:lnTo>
                  <a:pt x="389" y="389"/>
                </a:lnTo>
                <a:lnTo>
                  <a:pt x="389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571" y="958"/>
                </a:moveTo>
                <a:lnTo>
                  <a:pt x="881" y="958"/>
                </a:lnTo>
                <a:lnTo>
                  <a:pt x="725" y="452"/>
                </a:lnTo>
                <a:lnTo>
                  <a:pt x="571" y="958"/>
                </a:lnTo>
                <a:close/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2" y="418"/>
                </a:moveTo>
                <a:lnTo>
                  <a:pt x="743" y="418"/>
                </a:lnTo>
                <a:lnTo>
                  <a:pt x="724" y="419"/>
                </a:lnTo>
                <a:lnTo>
                  <a:pt x="706" y="422"/>
                </a:lnTo>
                <a:lnTo>
                  <a:pt x="688" y="424"/>
                </a:lnTo>
                <a:lnTo>
                  <a:pt x="672" y="428"/>
                </a:lnTo>
                <a:lnTo>
                  <a:pt x="654" y="432"/>
                </a:lnTo>
                <a:lnTo>
                  <a:pt x="639" y="438"/>
                </a:lnTo>
                <a:lnTo>
                  <a:pt x="622" y="444"/>
                </a:lnTo>
                <a:lnTo>
                  <a:pt x="607" y="451"/>
                </a:lnTo>
                <a:lnTo>
                  <a:pt x="591" y="460"/>
                </a:lnTo>
                <a:lnTo>
                  <a:pt x="576" y="468"/>
                </a:lnTo>
                <a:lnTo>
                  <a:pt x="561" y="478"/>
                </a:lnTo>
                <a:lnTo>
                  <a:pt x="547" y="488"/>
                </a:lnTo>
                <a:lnTo>
                  <a:pt x="533" y="500"/>
                </a:lnTo>
                <a:lnTo>
                  <a:pt x="520" y="512"/>
                </a:lnTo>
                <a:lnTo>
                  <a:pt x="507" y="525"/>
                </a:lnTo>
                <a:lnTo>
                  <a:pt x="495" y="538"/>
                </a:lnTo>
                <a:lnTo>
                  <a:pt x="483" y="552"/>
                </a:lnTo>
                <a:lnTo>
                  <a:pt x="472" y="567"/>
                </a:lnTo>
                <a:lnTo>
                  <a:pt x="462" y="582"/>
                </a:lnTo>
                <a:lnTo>
                  <a:pt x="452" y="598"/>
                </a:lnTo>
                <a:lnTo>
                  <a:pt x="444" y="613"/>
                </a:lnTo>
                <a:lnTo>
                  <a:pt x="437" y="628"/>
                </a:lnTo>
                <a:lnTo>
                  <a:pt x="430" y="645"/>
                </a:lnTo>
                <a:lnTo>
                  <a:pt x="424" y="662"/>
                </a:lnTo>
                <a:lnTo>
                  <a:pt x="419" y="678"/>
                </a:lnTo>
                <a:lnTo>
                  <a:pt x="414" y="696"/>
                </a:lnTo>
                <a:lnTo>
                  <a:pt x="411" y="714"/>
                </a:lnTo>
                <a:lnTo>
                  <a:pt x="408" y="733"/>
                </a:lnTo>
                <a:lnTo>
                  <a:pt x="406" y="752"/>
                </a:lnTo>
                <a:lnTo>
                  <a:pt x="405" y="771"/>
                </a:lnTo>
                <a:lnTo>
                  <a:pt x="405" y="790"/>
                </a:lnTo>
                <a:lnTo>
                  <a:pt x="405" y="810"/>
                </a:lnTo>
                <a:lnTo>
                  <a:pt x="406" y="829"/>
                </a:lnTo>
                <a:lnTo>
                  <a:pt x="408" y="848"/>
                </a:lnTo>
                <a:lnTo>
                  <a:pt x="411" y="866"/>
                </a:lnTo>
                <a:lnTo>
                  <a:pt x="414" y="884"/>
                </a:lnTo>
                <a:lnTo>
                  <a:pt x="419" y="902"/>
                </a:lnTo>
                <a:lnTo>
                  <a:pt x="424" y="918"/>
                </a:lnTo>
                <a:lnTo>
                  <a:pt x="430" y="935"/>
                </a:lnTo>
                <a:lnTo>
                  <a:pt x="437" y="952"/>
                </a:lnTo>
                <a:lnTo>
                  <a:pt x="444" y="968"/>
                </a:lnTo>
                <a:lnTo>
                  <a:pt x="452" y="984"/>
                </a:lnTo>
                <a:lnTo>
                  <a:pt x="462" y="998"/>
                </a:lnTo>
                <a:lnTo>
                  <a:pt x="471" y="1013"/>
                </a:lnTo>
                <a:lnTo>
                  <a:pt x="483" y="1028"/>
                </a:lnTo>
                <a:lnTo>
                  <a:pt x="494" y="1042"/>
                </a:lnTo>
                <a:lnTo>
                  <a:pt x="507" y="1055"/>
                </a:lnTo>
                <a:lnTo>
                  <a:pt x="520" y="1068"/>
                </a:lnTo>
                <a:lnTo>
                  <a:pt x="533" y="1080"/>
                </a:lnTo>
                <a:lnTo>
                  <a:pt x="546" y="1092"/>
                </a:lnTo>
                <a:lnTo>
                  <a:pt x="560" y="1101"/>
                </a:lnTo>
                <a:lnTo>
                  <a:pt x="576" y="1111"/>
                </a:lnTo>
                <a:lnTo>
                  <a:pt x="590" y="1120"/>
                </a:lnTo>
                <a:lnTo>
                  <a:pt x="605" y="1127"/>
                </a:lnTo>
                <a:lnTo>
                  <a:pt x="621" y="1135"/>
                </a:lnTo>
                <a:lnTo>
                  <a:pt x="637" y="1142"/>
                </a:lnTo>
                <a:lnTo>
                  <a:pt x="654" y="1146"/>
                </a:lnTo>
                <a:lnTo>
                  <a:pt x="671" y="1151"/>
                </a:lnTo>
                <a:lnTo>
                  <a:pt x="688" y="1155"/>
                </a:lnTo>
                <a:lnTo>
                  <a:pt x="706" y="1158"/>
                </a:lnTo>
                <a:lnTo>
                  <a:pt x="724" y="1161"/>
                </a:lnTo>
                <a:lnTo>
                  <a:pt x="743" y="1162"/>
                </a:lnTo>
                <a:lnTo>
                  <a:pt x="762" y="1162"/>
                </a:lnTo>
                <a:lnTo>
                  <a:pt x="780" y="1162"/>
                </a:lnTo>
                <a:lnTo>
                  <a:pt x="799" y="1161"/>
                </a:lnTo>
                <a:lnTo>
                  <a:pt x="817" y="1158"/>
                </a:lnTo>
                <a:lnTo>
                  <a:pt x="834" y="1155"/>
                </a:lnTo>
                <a:lnTo>
                  <a:pt x="851" y="1151"/>
                </a:lnTo>
                <a:lnTo>
                  <a:pt x="869" y="1146"/>
                </a:lnTo>
                <a:lnTo>
                  <a:pt x="884" y="1142"/>
                </a:lnTo>
                <a:lnTo>
                  <a:pt x="901" y="1135"/>
                </a:lnTo>
                <a:lnTo>
                  <a:pt x="916" y="1127"/>
                </a:lnTo>
                <a:lnTo>
                  <a:pt x="932" y="1120"/>
                </a:lnTo>
                <a:lnTo>
                  <a:pt x="947" y="1111"/>
                </a:lnTo>
                <a:lnTo>
                  <a:pt x="962" y="1101"/>
                </a:lnTo>
                <a:lnTo>
                  <a:pt x="976" y="1091"/>
                </a:lnTo>
                <a:lnTo>
                  <a:pt x="990" y="1080"/>
                </a:lnTo>
                <a:lnTo>
                  <a:pt x="1003" y="1068"/>
                </a:lnTo>
                <a:lnTo>
                  <a:pt x="1016" y="1055"/>
                </a:lnTo>
                <a:lnTo>
                  <a:pt x="1028" y="1041"/>
                </a:lnTo>
                <a:lnTo>
                  <a:pt x="1040" y="1028"/>
                </a:lnTo>
                <a:lnTo>
                  <a:pt x="1051" y="1012"/>
                </a:lnTo>
                <a:lnTo>
                  <a:pt x="1061" y="998"/>
                </a:lnTo>
                <a:lnTo>
                  <a:pt x="1070" y="982"/>
                </a:lnTo>
                <a:lnTo>
                  <a:pt x="1078" y="967"/>
                </a:lnTo>
                <a:lnTo>
                  <a:pt x="1086" y="952"/>
                </a:lnTo>
                <a:lnTo>
                  <a:pt x="1093" y="935"/>
                </a:lnTo>
                <a:lnTo>
                  <a:pt x="1099" y="918"/>
                </a:lnTo>
                <a:lnTo>
                  <a:pt x="1104" y="901"/>
                </a:lnTo>
                <a:lnTo>
                  <a:pt x="1109" y="884"/>
                </a:lnTo>
                <a:lnTo>
                  <a:pt x="1112" y="866"/>
                </a:lnTo>
                <a:lnTo>
                  <a:pt x="1115" y="847"/>
                </a:lnTo>
                <a:lnTo>
                  <a:pt x="1117" y="828"/>
                </a:lnTo>
                <a:lnTo>
                  <a:pt x="1118" y="809"/>
                </a:lnTo>
                <a:lnTo>
                  <a:pt x="1118" y="790"/>
                </a:lnTo>
                <a:lnTo>
                  <a:pt x="1118" y="771"/>
                </a:lnTo>
                <a:lnTo>
                  <a:pt x="1117" y="752"/>
                </a:lnTo>
                <a:lnTo>
                  <a:pt x="1115" y="733"/>
                </a:lnTo>
                <a:lnTo>
                  <a:pt x="1112" y="715"/>
                </a:lnTo>
                <a:lnTo>
                  <a:pt x="1109" y="697"/>
                </a:lnTo>
                <a:lnTo>
                  <a:pt x="1104" y="680"/>
                </a:lnTo>
                <a:lnTo>
                  <a:pt x="1099" y="663"/>
                </a:lnTo>
                <a:lnTo>
                  <a:pt x="1093" y="645"/>
                </a:lnTo>
                <a:lnTo>
                  <a:pt x="1086" y="630"/>
                </a:lnTo>
                <a:lnTo>
                  <a:pt x="1078" y="613"/>
                </a:lnTo>
                <a:lnTo>
                  <a:pt x="1070" y="598"/>
                </a:lnTo>
                <a:lnTo>
                  <a:pt x="1061" y="582"/>
                </a:lnTo>
                <a:lnTo>
                  <a:pt x="1051" y="568"/>
                </a:lnTo>
                <a:lnTo>
                  <a:pt x="1040" y="554"/>
                </a:lnTo>
                <a:lnTo>
                  <a:pt x="1028" y="539"/>
                </a:lnTo>
                <a:lnTo>
                  <a:pt x="1016" y="525"/>
                </a:lnTo>
                <a:lnTo>
                  <a:pt x="1003" y="512"/>
                </a:lnTo>
                <a:lnTo>
                  <a:pt x="990" y="500"/>
                </a:lnTo>
                <a:lnTo>
                  <a:pt x="976" y="489"/>
                </a:lnTo>
                <a:lnTo>
                  <a:pt x="962" y="479"/>
                </a:lnTo>
                <a:lnTo>
                  <a:pt x="947" y="469"/>
                </a:lnTo>
                <a:lnTo>
                  <a:pt x="932" y="460"/>
                </a:lnTo>
                <a:lnTo>
                  <a:pt x="916" y="451"/>
                </a:lnTo>
                <a:lnTo>
                  <a:pt x="901" y="444"/>
                </a:lnTo>
                <a:lnTo>
                  <a:pt x="884" y="438"/>
                </a:lnTo>
                <a:lnTo>
                  <a:pt x="869" y="432"/>
                </a:lnTo>
                <a:lnTo>
                  <a:pt x="851" y="429"/>
                </a:lnTo>
                <a:lnTo>
                  <a:pt x="834" y="424"/>
                </a:lnTo>
                <a:lnTo>
                  <a:pt x="817" y="422"/>
                </a:lnTo>
                <a:lnTo>
                  <a:pt x="799" y="419"/>
                </a:lnTo>
                <a:lnTo>
                  <a:pt x="780" y="418"/>
                </a:lnTo>
                <a:lnTo>
                  <a:pt x="762" y="418"/>
                </a:lnTo>
                <a:close/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388" y="1102"/>
                </a:moveTo>
                <a:lnTo>
                  <a:pt x="407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59" y="1089"/>
                </a:lnTo>
                <a:lnTo>
                  <a:pt x="476" y="1084"/>
                </a:lnTo>
                <a:lnTo>
                  <a:pt x="492" y="1078"/>
                </a:lnTo>
                <a:lnTo>
                  <a:pt x="508" y="1072"/>
                </a:lnTo>
                <a:lnTo>
                  <a:pt x="523" y="1066"/>
                </a:lnTo>
                <a:lnTo>
                  <a:pt x="539" y="1058"/>
                </a:lnTo>
                <a:lnTo>
                  <a:pt x="553" y="1051"/>
                </a:lnTo>
                <a:lnTo>
                  <a:pt x="567" y="1042"/>
                </a:lnTo>
                <a:lnTo>
                  <a:pt x="580" y="1033"/>
                </a:lnTo>
                <a:lnTo>
                  <a:pt x="593" y="1023"/>
                </a:lnTo>
                <a:lnTo>
                  <a:pt x="605" y="1013"/>
                </a:lnTo>
                <a:lnTo>
                  <a:pt x="618" y="1001"/>
                </a:lnTo>
                <a:lnTo>
                  <a:pt x="629" y="989"/>
                </a:lnTo>
                <a:lnTo>
                  <a:pt x="640" y="977"/>
                </a:lnTo>
                <a:lnTo>
                  <a:pt x="650" y="965"/>
                </a:lnTo>
                <a:lnTo>
                  <a:pt x="660" y="952"/>
                </a:lnTo>
                <a:lnTo>
                  <a:pt x="669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7" y="850"/>
                </a:lnTo>
                <a:lnTo>
                  <a:pt x="711" y="834"/>
                </a:lnTo>
                <a:lnTo>
                  <a:pt x="714" y="818"/>
                </a:lnTo>
                <a:lnTo>
                  <a:pt x="717" y="801"/>
                </a:lnTo>
                <a:lnTo>
                  <a:pt x="718" y="783"/>
                </a:lnTo>
                <a:lnTo>
                  <a:pt x="719" y="765"/>
                </a:lnTo>
                <a:lnTo>
                  <a:pt x="719" y="748"/>
                </a:lnTo>
                <a:lnTo>
                  <a:pt x="719" y="729"/>
                </a:lnTo>
                <a:lnTo>
                  <a:pt x="718" y="710"/>
                </a:lnTo>
                <a:lnTo>
                  <a:pt x="717" y="692"/>
                </a:lnTo>
                <a:lnTo>
                  <a:pt x="714" y="674"/>
                </a:lnTo>
                <a:lnTo>
                  <a:pt x="711" y="656"/>
                </a:lnTo>
                <a:lnTo>
                  <a:pt x="706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8" y="546"/>
                </a:lnTo>
                <a:lnTo>
                  <a:pt x="659" y="531"/>
                </a:lnTo>
                <a:lnTo>
                  <a:pt x="649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4" y="468"/>
                </a:lnTo>
                <a:lnTo>
                  <a:pt x="591" y="458"/>
                </a:lnTo>
                <a:lnTo>
                  <a:pt x="578" y="448"/>
                </a:lnTo>
                <a:lnTo>
                  <a:pt x="565" y="439"/>
                </a:lnTo>
                <a:lnTo>
                  <a:pt x="551" y="430"/>
                </a:lnTo>
                <a:lnTo>
                  <a:pt x="536" y="423"/>
                </a:lnTo>
                <a:lnTo>
                  <a:pt x="522" y="416"/>
                </a:lnTo>
                <a:lnTo>
                  <a:pt x="507" y="410"/>
                </a:lnTo>
                <a:lnTo>
                  <a:pt x="491" y="406"/>
                </a:lnTo>
                <a:lnTo>
                  <a:pt x="475" y="401"/>
                </a:lnTo>
                <a:lnTo>
                  <a:pt x="458" y="396"/>
                </a:lnTo>
                <a:lnTo>
                  <a:pt x="441" y="394"/>
                </a:lnTo>
                <a:lnTo>
                  <a:pt x="424" y="391"/>
                </a:lnTo>
                <a:lnTo>
                  <a:pt x="406" y="390"/>
                </a:lnTo>
                <a:lnTo>
                  <a:pt x="388" y="389"/>
                </a:lnTo>
                <a:lnTo>
                  <a:pt x="388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89160" y="860400"/>
            <a:ext cx="66960" cy="9828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0" y="377"/>
                </a:moveTo>
                <a:lnTo>
                  <a:pt x="36" y="377"/>
                </a:lnTo>
                <a:lnTo>
                  <a:pt x="62" y="376"/>
                </a:lnTo>
                <a:lnTo>
                  <a:pt x="86" y="374"/>
                </a:lnTo>
                <a:lnTo>
                  <a:pt x="109" y="370"/>
                </a:lnTo>
                <a:lnTo>
                  <a:pt x="129" y="365"/>
                </a:lnTo>
                <a:lnTo>
                  <a:pt x="148" y="358"/>
                </a:lnTo>
                <a:lnTo>
                  <a:pt x="166" y="350"/>
                </a:lnTo>
                <a:lnTo>
                  <a:pt x="182" y="340"/>
                </a:lnTo>
                <a:lnTo>
                  <a:pt x="197" y="330"/>
                </a:lnTo>
                <a:lnTo>
                  <a:pt x="210" y="316"/>
                </a:lnTo>
                <a:lnTo>
                  <a:pt x="220" y="302"/>
                </a:lnTo>
                <a:lnTo>
                  <a:pt x="230" y="288"/>
                </a:lnTo>
                <a:lnTo>
                  <a:pt x="238" y="270"/>
                </a:lnTo>
                <a:lnTo>
                  <a:pt x="244" y="252"/>
                </a:lnTo>
                <a:lnTo>
                  <a:pt x="248" y="233"/>
                </a:lnTo>
                <a:lnTo>
                  <a:pt x="250" y="212"/>
                </a:lnTo>
                <a:lnTo>
                  <a:pt x="251" y="191"/>
                </a:lnTo>
                <a:lnTo>
                  <a:pt x="251" y="168"/>
                </a:lnTo>
                <a:lnTo>
                  <a:pt x="248" y="147"/>
                </a:lnTo>
                <a:lnTo>
                  <a:pt x="244" y="128"/>
                </a:lnTo>
                <a:lnTo>
                  <a:pt x="238" y="109"/>
                </a:lnTo>
                <a:lnTo>
                  <a:pt x="231" y="92"/>
                </a:lnTo>
                <a:lnTo>
                  <a:pt x="222" y="77"/>
                </a:lnTo>
                <a:lnTo>
                  <a:pt x="211" y="62"/>
                </a:lnTo>
                <a:lnTo>
                  <a:pt x="199" y="49"/>
                </a:lnTo>
                <a:lnTo>
                  <a:pt x="185" y="37"/>
                </a:lnTo>
                <a:lnTo>
                  <a:pt x="169" y="28"/>
                </a:lnTo>
                <a:lnTo>
                  <a:pt x="153" y="19"/>
                </a:lnTo>
                <a:lnTo>
                  <a:pt x="135" y="12"/>
                </a:lnTo>
                <a:lnTo>
                  <a:pt x="115" y="8"/>
                </a:lnTo>
                <a:lnTo>
                  <a:pt x="93" y="3"/>
                </a:lnTo>
                <a:lnTo>
                  <a:pt x="71" y="0"/>
                </a:lnTo>
                <a:lnTo>
                  <a:pt x="47" y="0"/>
                </a:lnTo>
                <a:lnTo>
                  <a:pt x="0" y="0"/>
                </a:lnTo>
                <a:lnTo>
                  <a:pt x="0" y="37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6" y="707"/>
                </a:lnTo>
                <a:lnTo>
                  <a:pt x="54" y="703"/>
                </a:lnTo>
                <a:lnTo>
                  <a:pt x="71" y="700"/>
                </a:lnTo>
                <a:lnTo>
                  <a:pt x="87" y="695"/>
                </a:lnTo>
                <a:lnTo>
                  <a:pt x="104" y="689"/>
                </a:lnTo>
                <a:lnTo>
                  <a:pt x="119" y="683"/>
                </a:lnTo>
                <a:lnTo>
                  <a:pt x="135" y="677"/>
                </a:lnTo>
                <a:lnTo>
                  <a:pt x="150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8" y="624"/>
                </a:lnTo>
                <a:lnTo>
                  <a:pt x="230" y="612"/>
                </a:lnTo>
                <a:lnTo>
                  <a:pt x="241" y="600"/>
                </a:lnTo>
                <a:lnTo>
                  <a:pt x="251" y="588"/>
                </a:lnTo>
                <a:lnTo>
                  <a:pt x="262" y="576"/>
                </a:lnTo>
                <a:lnTo>
                  <a:pt x="271" y="563"/>
                </a:lnTo>
                <a:lnTo>
                  <a:pt x="281" y="549"/>
                </a:lnTo>
                <a:lnTo>
                  <a:pt x="288" y="536"/>
                </a:lnTo>
                <a:lnTo>
                  <a:pt x="296" y="521"/>
                </a:lnTo>
                <a:lnTo>
                  <a:pt x="302" y="507"/>
                </a:lnTo>
                <a:lnTo>
                  <a:pt x="308" y="492"/>
                </a:lnTo>
                <a:lnTo>
                  <a:pt x="314" y="476"/>
                </a:lnTo>
                <a:lnTo>
                  <a:pt x="319" y="461"/>
                </a:lnTo>
                <a:lnTo>
                  <a:pt x="322" y="445"/>
                </a:lnTo>
                <a:lnTo>
                  <a:pt x="326" y="429"/>
                </a:lnTo>
                <a:lnTo>
                  <a:pt x="328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8" y="303"/>
                </a:lnTo>
                <a:lnTo>
                  <a:pt x="326" y="285"/>
                </a:lnTo>
                <a:lnTo>
                  <a:pt x="322" y="267"/>
                </a:lnTo>
                <a:lnTo>
                  <a:pt x="319" y="249"/>
                </a:lnTo>
                <a:lnTo>
                  <a:pt x="314" y="233"/>
                </a:lnTo>
                <a:lnTo>
                  <a:pt x="308" y="217"/>
                </a:lnTo>
                <a:lnTo>
                  <a:pt x="302" y="202"/>
                </a:lnTo>
                <a:lnTo>
                  <a:pt x="295" y="186"/>
                </a:lnTo>
                <a:lnTo>
                  <a:pt x="288" y="171"/>
                </a:lnTo>
                <a:lnTo>
                  <a:pt x="280" y="157"/>
                </a:lnTo>
                <a:lnTo>
                  <a:pt x="270" y="142"/>
                </a:lnTo>
                <a:lnTo>
                  <a:pt x="261" y="129"/>
                </a:lnTo>
                <a:lnTo>
                  <a:pt x="250" y="115"/>
                </a:lnTo>
                <a:lnTo>
                  <a:pt x="239" y="103"/>
                </a:lnTo>
                <a:lnTo>
                  <a:pt x="227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6" y="50"/>
                </a:lnTo>
                <a:lnTo>
                  <a:pt x="162" y="41"/>
                </a:lnTo>
                <a:lnTo>
                  <a:pt x="148" y="34"/>
                </a:lnTo>
                <a:lnTo>
                  <a:pt x="134" y="27"/>
                </a:lnTo>
                <a:lnTo>
                  <a:pt x="118" y="21"/>
                </a:lnTo>
                <a:lnTo>
                  <a:pt x="103" y="17"/>
                </a:lnTo>
                <a:lnTo>
                  <a:pt x="86" y="12"/>
                </a:lnTo>
                <a:lnTo>
                  <a:pt x="70" y="7"/>
                </a:lnTo>
                <a:lnTo>
                  <a:pt x="53" y="5"/>
                </a:lnTo>
                <a:lnTo>
                  <a:pt x="35" y="2"/>
                </a:lnTo>
                <a:lnTo>
                  <a:pt x="17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0800" y="892080"/>
            <a:ext cx="82440" cy="133560"/>
          </a:xfrm>
          <a:custGeom>
            <a:avLst/>
            <a:gdLst/>
            <a:ahLst/>
            <a:rect l="l" t="t" r="r" b="b"/>
            <a:pathLst>
              <a:path w="310" h="506">
                <a:moveTo>
                  <a:pt x="0" y="506"/>
                </a:moveTo>
                <a:lnTo>
                  <a:pt x="310" y="506"/>
                </a:lnTo>
                <a:lnTo>
                  <a:pt x="154" y="0"/>
                </a:lnTo>
                <a:lnTo>
                  <a:pt x="0" y="5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873000"/>
            <a:ext cx="189000" cy="196920"/>
          </a:xfrm>
          <a:custGeom>
            <a:avLst/>
            <a:gdLst/>
            <a:ahLst/>
            <a:rect l="l" t="t" r="r" b="b"/>
            <a:pathLst>
              <a:path w="713" h="744">
                <a:moveTo>
                  <a:pt x="357" y="0"/>
                </a:moveTo>
                <a:lnTo>
                  <a:pt x="338" y="0"/>
                </a:lnTo>
                <a:lnTo>
                  <a:pt x="319" y="1"/>
                </a:lnTo>
                <a:lnTo>
                  <a:pt x="301" y="4"/>
                </a:lnTo>
                <a:lnTo>
                  <a:pt x="283" y="6"/>
                </a:lnTo>
                <a:lnTo>
                  <a:pt x="267" y="10"/>
                </a:lnTo>
                <a:lnTo>
                  <a:pt x="249" y="14"/>
                </a:lnTo>
                <a:lnTo>
                  <a:pt x="234" y="20"/>
                </a:lnTo>
                <a:lnTo>
                  <a:pt x="217" y="26"/>
                </a:lnTo>
                <a:lnTo>
                  <a:pt x="202" y="33"/>
                </a:lnTo>
                <a:lnTo>
                  <a:pt x="186" y="42"/>
                </a:lnTo>
                <a:lnTo>
                  <a:pt x="171" y="50"/>
                </a:lnTo>
                <a:lnTo>
                  <a:pt x="156" y="60"/>
                </a:lnTo>
                <a:lnTo>
                  <a:pt x="142" y="70"/>
                </a:lnTo>
                <a:lnTo>
                  <a:pt x="128" y="82"/>
                </a:lnTo>
                <a:lnTo>
                  <a:pt x="115" y="94"/>
                </a:lnTo>
                <a:lnTo>
                  <a:pt x="102" y="107"/>
                </a:lnTo>
                <a:lnTo>
                  <a:pt x="90" y="120"/>
                </a:lnTo>
                <a:lnTo>
                  <a:pt x="78" y="134"/>
                </a:lnTo>
                <a:lnTo>
                  <a:pt x="67" y="149"/>
                </a:lnTo>
                <a:lnTo>
                  <a:pt x="57" y="164"/>
                </a:lnTo>
                <a:lnTo>
                  <a:pt x="47" y="180"/>
                </a:lnTo>
                <a:lnTo>
                  <a:pt x="39" y="195"/>
                </a:lnTo>
                <a:lnTo>
                  <a:pt x="32" y="210"/>
                </a:lnTo>
                <a:lnTo>
                  <a:pt x="25" y="227"/>
                </a:lnTo>
                <a:lnTo>
                  <a:pt x="19" y="244"/>
                </a:lnTo>
                <a:lnTo>
                  <a:pt x="14" y="260"/>
                </a:lnTo>
                <a:lnTo>
                  <a:pt x="9" y="278"/>
                </a:lnTo>
                <a:lnTo>
                  <a:pt x="6" y="296"/>
                </a:lnTo>
                <a:lnTo>
                  <a:pt x="3" y="315"/>
                </a:lnTo>
                <a:lnTo>
                  <a:pt x="1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2"/>
                </a:lnTo>
                <a:lnTo>
                  <a:pt x="1" y="411"/>
                </a:lnTo>
                <a:lnTo>
                  <a:pt x="3" y="430"/>
                </a:lnTo>
                <a:lnTo>
                  <a:pt x="6" y="448"/>
                </a:lnTo>
                <a:lnTo>
                  <a:pt x="9" y="466"/>
                </a:lnTo>
                <a:lnTo>
                  <a:pt x="14" y="484"/>
                </a:lnTo>
                <a:lnTo>
                  <a:pt x="19" y="500"/>
                </a:lnTo>
                <a:lnTo>
                  <a:pt x="25" y="517"/>
                </a:lnTo>
                <a:lnTo>
                  <a:pt x="32" y="534"/>
                </a:lnTo>
                <a:lnTo>
                  <a:pt x="39" y="550"/>
                </a:lnTo>
                <a:lnTo>
                  <a:pt x="47" y="566"/>
                </a:lnTo>
                <a:lnTo>
                  <a:pt x="57" y="580"/>
                </a:lnTo>
                <a:lnTo>
                  <a:pt x="66" y="595"/>
                </a:lnTo>
                <a:lnTo>
                  <a:pt x="78" y="610"/>
                </a:lnTo>
                <a:lnTo>
                  <a:pt x="89" y="624"/>
                </a:lnTo>
                <a:lnTo>
                  <a:pt x="102" y="637"/>
                </a:lnTo>
                <a:lnTo>
                  <a:pt x="115" y="650"/>
                </a:lnTo>
                <a:lnTo>
                  <a:pt x="128" y="662"/>
                </a:lnTo>
                <a:lnTo>
                  <a:pt x="141" y="674"/>
                </a:lnTo>
                <a:lnTo>
                  <a:pt x="155" y="683"/>
                </a:lnTo>
                <a:lnTo>
                  <a:pt x="171" y="693"/>
                </a:lnTo>
                <a:lnTo>
                  <a:pt x="185" y="702"/>
                </a:lnTo>
                <a:lnTo>
                  <a:pt x="200" y="709"/>
                </a:lnTo>
                <a:lnTo>
                  <a:pt x="216" y="717"/>
                </a:lnTo>
                <a:lnTo>
                  <a:pt x="232" y="724"/>
                </a:lnTo>
                <a:lnTo>
                  <a:pt x="249" y="728"/>
                </a:lnTo>
                <a:lnTo>
                  <a:pt x="266" y="733"/>
                </a:lnTo>
                <a:lnTo>
                  <a:pt x="283" y="737"/>
                </a:lnTo>
                <a:lnTo>
                  <a:pt x="301" y="740"/>
                </a:lnTo>
                <a:lnTo>
                  <a:pt x="319" y="743"/>
                </a:lnTo>
                <a:lnTo>
                  <a:pt x="338" y="744"/>
                </a:lnTo>
                <a:lnTo>
                  <a:pt x="357" y="744"/>
                </a:lnTo>
                <a:lnTo>
                  <a:pt x="375" y="744"/>
                </a:lnTo>
                <a:lnTo>
                  <a:pt x="394" y="743"/>
                </a:lnTo>
                <a:lnTo>
                  <a:pt x="412" y="740"/>
                </a:lnTo>
                <a:lnTo>
                  <a:pt x="429" y="737"/>
                </a:lnTo>
                <a:lnTo>
                  <a:pt x="446" y="733"/>
                </a:lnTo>
                <a:lnTo>
                  <a:pt x="464" y="728"/>
                </a:lnTo>
                <a:lnTo>
                  <a:pt x="479" y="724"/>
                </a:lnTo>
                <a:lnTo>
                  <a:pt x="496" y="717"/>
                </a:lnTo>
                <a:lnTo>
                  <a:pt x="511" y="709"/>
                </a:lnTo>
                <a:lnTo>
                  <a:pt x="527" y="702"/>
                </a:lnTo>
                <a:lnTo>
                  <a:pt x="542" y="693"/>
                </a:lnTo>
                <a:lnTo>
                  <a:pt x="557" y="683"/>
                </a:lnTo>
                <a:lnTo>
                  <a:pt x="571" y="673"/>
                </a:lnTo>
                <a:lnTo>
                  <a:pt x="585" y="662"/>
                </a:lnTo>
                <a:lnTo>
                  <a:pt x="598" y="650"/>
                </a:lnTo>
                <a:lnTo>
                  <a:pt x="611" y="637"/>
                </a:lnTo>
                <a:lnTo>
                  <a:pt x="623" y="623"/>
                </a:lnTo>
                <a:lnTo>
                  <a:pt x="635" y="610"/>
                </a:lnTo>
                <a:lnTo>
                  <a:pt x="646" y="594"/>
                </a:lnTo>
                <a:lnTo>
                  <a:pt x="656" y="580"/>
                </a:lnTo>
                <a:lnTo>
                  <a:pt x="665" y="564"/>
                </a:lnTo>
                <a:lnTo>
                  <a:pt x="673" y="549"/>
                </a:lnTo>
                <a:lnTo>
                  <a:pt x="681" y="534"/>
                </a:lnTo>
                <a:lnTo>
                  <a:pt x="688" y="517"/>
                </a:lnTo>
                <a:lnTo>
                  <a:pt x="694" y="500"/>
                </a:lnTo>
                <a:lnTo>
                  <a:pt x="699" y="483"/>
                </a:lnTo>
                <a:lnTo>
                  <a:pt x="704" y="466"/>
                </a:lnTo>
                <a:lnTo>
                  <a:pt x="707" y="448"/>
                </a:lnTo>
                <a:lnTo>
                  <a:pt x="710" y="429"/>
                </a:lnTo>
                <a:lnTo>
                  <a:pt x="712" y="410"/>
                </a:lnTo>
                <a:lnTo>
                  <a:pt x="713" y="391"/>
                </a:lnTo>
                <a:lnTo>
                  <a:pt x="713" y="372"/>
                </a:lnTo>
                <a:lnTo>
                  <a:pt x="713" y="353"/>
                </a:lnTo>
                <a:lnTo>
                  <a:pt x="712" y="334"/>
                </a:lnTo>
                <a:lnTo>
                  <a:pt x="710" y="315"/>
                </a:lnTo>
                <a:lnTo>
                  <a:pt x="707" y="297"/>
                </a:lnTo>
                <a:lnTo>
                  <a:pt x="704" y="279"/>
                </a:lnTo>
                <a:lnTo>
                  <a:pt x="699" y="262"/>
                </a:lnTo>
                <a:lnTo>
                  <a:pt x="694" y="245"/>
                </a:lnTo>
                <a:lnTo>
                  <a:pt x="688" y="227"/>
                </a:lnTo>
                <a:lnTo>
                  <a:pt x="681" y="212"/>
                </a:lnTo>
                <a:lnTo>
                  <a:pt x="673" y="195"/>
                </a:lnTo>
                <a:lnTo>
                  <a:pt x="665" y="180"/>
                </a:lnTo>
                <a:lnTo>
                  <a:pt x="656" y="164"/>
                </a:lnTo>
                <a:lnTo>
                  <a:pt x="646" y="150"/>
                </a:lnTo>
                <a:lnTo>
                  <a:pt x="635" y="136"/>
                </a:lnTo>
                <a:lnTo>
                  <a:pt x="623" y="121"/>
                </a:lnTo>
                <a:lnTo>
                  <a:pt x="611" y="107"/>
                </a:lnTo>
                <a:lnTo>
                  <a:pt x="598" y="94"/>
                </a:lnTo>
                <a:lnTo>
                  <a:pt x="585" y="82"/>
                </a:lnTo>
                <a:lnTo>
                  <a:pt x="571" y="71"/>
                </a:lnTo>
                <a:lnTo>
                  <a:pt x="557" y="61"/>
                </a:lnTo>
                <a:lnTo>
                  <a:pt x="542" y="51"/>
                </a:lnTo>
                <a:lnTo>
                  <a:pt x="527" y="42"/>
                </a:lnTo>
                <a:lnTo>
                  <a:pt x="511" y="33"/>
                </a:lnTo>
                <a:lnTo>
                  <a:pt x="496" y="26"/>
                </a:lnTo>
                <a:lnTo>
                  <a:pt x="479" y="20"/>
                </a:lnTo>
                <a:lnTo>
                  <a:pt x="464" y="14"/>
                </a:lnTo>
                <a:lnTo>
                  <a:pt x="446" y="11"/>
                </a:lnTo>
                <a:lnTo>
                  <a:pt x="429" y="6"/>
                </a:lnTo>
                <a:lnTo>
                  <a:pt x="412" y="4"/>
                </a:lnTo>
                <a:lnTo>
                  <a:pt x="394" y="1"/>
                </a:lnTo>
                <a:lnTo>
                  <a:pt x="375" y="0"/>
                </a:lnTo>
                <a:lnTo>
                  <a:pt x="35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6588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7" y="707"/>
                </a:lnTo>
                <a:lnTo>
                  <a:pt x="55" y="703"/>
                </a:lnTo>
                <a:lnTo>
                  <a:pt x="71" y="700"/>
                </a:lnTo>
                <a:lnTo>
                  <a:pt x="88" y="695"/>
                </a:lnTo>
                <a:lnTo>
                  <a:pt x="104" y="689"/>
                </a:lnTo>
                <a:lnTo>
                  <a:pt x="120" y="683"/>
                </a:lnTo>
                <a:lnTo>
                  <a:pt x="135" y="677"/>
                </a:lnTo>
                <a:lnTo>
                  <a:pt x="151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7" y="624"/>
                </a:lnTo>
                <a:lnTo>
                  <a:pt x="230" y="612"/>
                </a:lnTo>
                <a:lnTo>
                  <a:pt x="241" y="600"/>
                </a:lnTo>
                <a:lnTo>
                  <a:pt x="252" y="588"/>
                </a:lnTo>
                <a:lnTo>
                  <a:pt x="262" y="576"/>
                </a:lnTo>
                <a:lnTo>
                  <a:pt x="272" y="563"/>
                </a:lnTo>
                <a:lnTo>
                  <a:pt x="281" y="549"/>
                </a:lnTo>
                <a:lnTo>
                  <a:pt x="289" y="536"/>
                </a:lnTo>
                <a:lnTo>
                  <a:pt x="297" y="521"/>
                </a:lnTo>
                <a:lnTo>
                  <a:pt x="303" y="507"/>
                </a:lnTo>
                <a:lnTo>
                  <a:pt x="309" y="492"/>
                </a:lnTo>
                <a:lnTo>
                  <a:pt x="315" y="476"/>
                </a:lnTo>
                <a:lnTo>
                  <a:pt x="319" y="461"/>
                </a:lnTo>
                <a:lnTo>
                  <a:pt x="323" y="445"/>
                </a:lnTo>
                <a:lnTo>
                  <a:pt x="326" y="429"/>
                </a:lnTo>
                <a:lnTo>
                  <a:pt x="329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9" y="303"/>
                </a:lnTo>
                <a:lnTo>
                  <a:pt x="326" y="285"/>
                </a:lnTo>
                <a:lnTo>
                  <a:pt x="323" y="267"/>
                </a:lnTo>
                <a:lnTo>
                  <a:pt x="318" y="249"/>
                </a:lnTo>
                <a:lnTo>
                  <a:pt x="315" y="233"/>
                </a:lnTo>
                <a:lnTo>
                  <a:pt x="309" y="217"/>
                </a:lnTo>
                <a:lnTo>
                  <a:pt x="303" y="202"/>
                </a:lnTo>
                <a:lnTo>
                  <a:pt x="296" y="186"/>
                </a:lnTo>
                <a:lnTo>
                  <a:pt x="289" y="171"/>
                </a:lnTo>
                <a:lnTo>
                  <a:pt x="280" y="157"/>
                </a:lnTo>
                <a:lnTo>
                  <a:pt x="271" y="142"/>
                </a:lnTo>
                <a:lnTo>
                  <a:pt x="261" y="129"/>
                </a:lnTo>
                <a:lnTo>
                  <a:pt x="251" y="115"/>
                </a:lnTo>
                <a:lnTo>
                  <a:pt x="240" y="103"/>
                </a:lnTo>
                <a:lnTo>
                  <a:pt x="228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7" y="50"/>
                </a:lnTo>
                <a:lnTo>
                  <a:pt x="163" y="41"/>
                </a:lnTo>
                <a:lnTo>
                  <a:pt x="148" y="34"/>
                </a:lnTo>
                <a:lnTo>
                  <a:pt x="134" y="27"/>
                </a:lnTo>
                <a:lnTo>
                  <a:pt x="119" y="21"/>
                </a:lnTo>
                <a:lnTo>
                  <a:pt x="103" y="17"/>
                </a:lnTo>
                <a:lnTo>
                  <a:pt x="87" y="12"/>
                </a:lnTo>
                <a:lnTo>
                  <a:pt x="70" y="7"/>
                </a:lnTo>
                <a:lnTo>
                  <a:pt x="53" y="5"/>
                </a:lnTo>
                <a:lnTo>
                  <a:pt x="36" y="2"/>
                </a:lnTo>
                <a:lnTo>
                  <a:pt x="18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887560" y="685800"/>
            <a:ext cx="3432240" cy="1114560"/>
            <a:chOff x="2887560" y="685800"/>
            <a:chExt cx="3432240" cy="1114560"/>
          </a:xfrm>
        </p:grpSpPr>
        <p:sp>
          <p:nvSpPr>
            <p:cNvPr id="305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555" y="933"/>
                  </a:moveTo>
                  <a:lnTo>
                    <a:pt x="854" y="933"/>
                  </a:lnTo>
                  <a:lnTo>
                    <a:pt x="704" y="440"/>
                  </a:lnTo>
                  <a:lnTo>
                    <a:pt x="555" y="933"/>
                  </a:lnTo>
                  <a:close/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5" y="410"/>
                  </a:lnTo>
                  <a:lnTo>
                    <a:pt x="668" y="413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19" y="427"/>
                  </a:lnTo>
                  <a:lnTo>
                    <a:pt x="604" y="433"/>
                  </a:lnTo>
                  <a:lnTo>
                    <a:pt x="589" y="439"/>
                  </a:lnTo>
                  <a:lnTo>
                    <a:pt x="573" y="447"/>
                  </a:lnTo>
                  <a:lnTo>
                    <a:pt x="559" y="455"/>
                  </a:lnTo>
                  <a:lnTo>
                    <a:pt x="545" y="465"/>
                  </a:lnTo>
                  <a:lnTo>
                    <a:pt x="531" y="476"/>
                  </a:lnTo>
                  <a:lnTo>
                    <a:pt x="517" y="486"/>
                  </a:lnTo>
                  <a:lnTo>
                    <a:pt x="504" y="498"/>
                  </a:lnTo>
                  <a:lnTo>
                    <a:pt x="492" y="510"/>
                  </a:lnTo>
                  <a:lnTo>
                    <a:pt x="480" y="524"/>
                  </a:lnTo>
                  <a:lnTo>
                    <a:pt x="469" y="538"/>
                  </a:lnTo>
                  <a:lnTo>
                    <a:pt x="458" y="551"/>
                  </a:lnTo>
                  <a:lnTo>
                    <a:pt x="448" y="565"/>
                  </a:lnTo>
                  <a:lnTo>
                    <a:pt x="439" y="581"/>
                  </a:lnTo>
                  <a:lnTo>
                    <a:pt x="431" y="596"/>
                  </a:lnTo>
                  <a:lnTo>
                    <a:pt x="424" y="611"/>
                  </a:lnTo>
                  <a:lnTo>
                    <a:pt x="418" y="628"/>
                  </a:lnTo>
                  <a:lnTo>
                    <a:pt x="412" y="644"/>
                  </a:lnTo>
                  <a:lnTo>
                    <a:pt x="406" y="660"/>
                  </a:lnTo>
                  <a:lnTo>
                    <a:pt x="402" y="678"/>
                  </a:lnTo>
                  <a:lnTo>
                    <a:pt x="398" y="695"/>
                  </a:lnTo>
                  <a:lnTo>
                    <a:pt x="395" y="712"/>
                  </a:lnTo>
                  <a:lnTo>
                    <a:pt x="394" y="731"/>
                  </a:lnTo>
                  <a:lnTo>
                    <a:pt x="392" y="750"/>
                  </a:lnTo>
                  <a:lnTo>
                    <a:pt x="392" y="769"/>
                  </a:lnTo>
                  <a:lnTo>
                    <a:pt x="392" y="788"/>
                  </a:lnTo>
                  <a:lnTo>
                    <a:pt x="394" y="806"/>
                  </a:lnTo>
                  <a:lnTo>
                    <a:pt x="395" y="825"/>
                  </a:lnTo>
                  <a:lnTo>
                    <a:pt x="398" y="842"/>
                  </a:lnTo>
                  <a:lnTo>
                    <a:pt x="401" y="860"/>
                  </a:lnTo>
                  <a:lnTo>
                    <a:pt x="406" y="877"/>
                  </a:lnTo>
                  <a:lnTo>
                    <a:pt x="412" y="894"/>
                  </a:lnTo>
                  <a:lnTo>
                    <a:pt x="417" y="910"/>
                  </a:lnTo>
                  <a:lnTo>
                    <a:pt x="424" y="926"/>
                  </a:lnTo>
                  <a:lnTo>
                    <a:pt x="431" y="941"/>
                  </a:lnTo>
                  <a:lnTo>
                    <a:pt x="439" y="956"/>
                  </a:lnTo>
                  <a:lnTo>
                    <a:pt x="448" y="972"/>
                  </a:lnTo>
                  <a:lnTo>
                    <a:pt x="457" y="986"/>
                  </a:lnTo>
                  <a:lnTo>
                    <a:pt x="469" y="999"/>
                  </a:lnTo>
                  <a:lnTo>
                    <a:pt x="480" y="1013"/>
                  </a:lnTo>
                  <a:lnTo>
                    <a:pt x="492" y="1026"/>
                  </a:lnTo>
                  <a:lnTo>
                    <a:pt x="504" y="1039"/>
                  </a:lnTo>
                  <a:lnTo>
                    <a:pt x="517" y="1050"/>
                  </a:lnTo>
                  <a:lnTo>
                    <a:pt x="531" y="1061"/>
                  </a:lnTo>
                  <a:lnTo>
                    <a:pt x="544" y="1072"/>
                  </a:lnTo>
                  <a:lnTo>
                    <a:pt x="558" y="1081"/>
                  </a:lnTo>
                  <a:lnTo>
                    <a:pt x="572" y="1090"/>
                  </a:lnTo>
                  <a:lnTo>
                    <a:pt x="588" y="1097"/>
                  </a:lnTo>
                  <a:lnTo>
                    <a:pt x="603" y="1104"/>
                  </a:lnTo>
                  <a:lnTo>
                    <a:pt x="618" y="1110"/>
                  </a:lnTo>
                  <a:lnTo>
                    <a:pt x="634" y="1116"/>
                  </a:lnTo>
                  <a:lnTo>
                    <a:pt x="651" y="1120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8" y="1130"/>
                  </a:lnTo>
                  <a:lnTo>
                    <a:pt x="775" y="1129"/>
                  </a:lnTo>
                  <a:lnTo>
                    <a:pt x="792" y="1127"/>
                  </a:lnTo>
                  <a:lnTo>
                    <a:pt x="809" y="1124"/>
                  </a:lnTo>
                  <a:lnTo>
                    <a:pt x="826" y="1120"/>
                  </a:lnTo>
                  <a:lnTo>
                    <a:pt x="843" y="1116"/>
                  </a:lnTo>
                  <a:lnTo>
                    <a:pt x="858" y="1110"/>
                  </a:lnTo>
                  <a:lnTo>
                    <a:pt x="875" y="1104"/>
                  </a:lnTo>
                  <a:lnTo>
                    <a:pt x="890" y="1097"/>
                  </a:lnTo>
                  <a:lnTo>
                    <a:pt x="904" y="1090"/>
                  </a:lnTo>
                  <a:lnTo>
                    <a:pt x="918" y="1081"/>
                  </a:lnTo>
                  <a:lnTo>
                    <a:pt x="933" y="1072"/>
                  </a:lnTo>
                  <a:lnTo>
                    <a:pt x="947" y="1061"/>
                  </a:lnTo>
                  <a:lnTo>
                    <a:pt x="960" y="1050"/>
                  </a:lnTo>
                  <a:lnTo>
                    <a:pt x="973" y="1039"/>
                  </a:lnTo>
                  <a:lnTo>
                    <a:pt x="985" y="1026"/>
                  </a:lnTo>
                  <a:lnTo>
                    <a:pt x="998" y="1012"/>
                  </a:lnTo>
                  <a:lnTo>
                    <a:pt x="1009" y="999"/>
                  </a:lnTo>
                  <a:lnTo>
                    <a:pt x="1020" y="985"/>
                  </a:lnTo>
                  <a:lnTo>
                    <a:pt x="1029" y="971"/>
                  </a:lnTo>
                  <a:lnTo>
                    <a:pt x="1038" y="956"/>
                  </a:lnTo>
                  <a:lnTo>
                    <a:pt x="1047" y="941"/>
                  </a:lnTo>
                  <a:lnTo>
                    <a:pt x="1054" y="926"/>
                  </a:lnTo>
                  <a:lnTo>
                    <a:pt x="1061" y="909"/>
                  </a:lnTo>
                  <a:lnTo>
                    <a:pt x="1066" y="893"/>
                  </a:lnTo>
                  <a:lnTo>
                    <a:pt x="1071" y="877"/>
                  </a:lnTo>
                  <a:lnTo>
                    <a:pt x="1076" y="859"/>
                  </a:lnTo>
                  <a:lnTo>
                    <a:pt x="1079" y="842"/>
                  </a:lnTo>
                  <a:lnTo>
                    <a:pt x="1082" y="825"/>
                  </a:lnTo>
                  <a:lnTo>
                    <a:pt x="1084" y="806"/>
                  </a:lnTo>
                  <a:lnTo>
                    <a:pt x="1085" y="788"/>
                  </a:lnTo>
                  <a:lnTo>
                    <a:pt x="1085" y="769"/>
                  </a:lnTo>
                  <a:lnTo>
                    <a:pt x="1085" y="750"/>
                  </a:lnTo>
                  <a:lnTo>
                    <a:pt x="1084" y="732"/>
                  </a:lnTo>
                  <a:lnTo>
                    <a:pt x="1082" y="713"/>
                  </a:lnTo>
                  <a:lnTo>
                    <a:pt x="1079" y="695"/>
                  </a:lnTo>
                  <a:lnTo>
                    <a:pt x="1076" y="678"/>
                  </a:lnTo>
                  <a:lnTo>
                    <a:pt x="1071" y="661"/>
                  </a:lnTo>
                  <a:lnTo>
                    <a:pt x="1066" y="644"/>
                  </a:lnTo>
                  <a:lnTo>
                    <a:pt x="1061" y="628"/>
                  </a:lnTo>
                  <a:lnTo>
                    <a:pt x="1054" y="612"/>
                  </a:lnTo>
                  <a:lnTo>
                    <a:pt x="1047" y="597"/>
                  </a:lnTo>
                  <a:lnTo>
                    <a:pt x="1038" y="582"/>
                  </a:lnTo>
                  <a:lnTo>
                    <a:pt x="1029" y="566"/>
                  </a:lnTo>
                  <a:lnTo>
                    <a:pt x="1020" y="552"/>
                  </a:lnTo>
                  <a:lnTo>
                    <a:pt x="1009" y="538"/>
                  </a:lnTo>
                  <a:lnTo>
                    <a:pt x="998" y="525"/>
                  </a:lnTo>
                  <a:lnTo>
                    <a:pt x="985" y="511"/>
                  </a:lnTo>
                  <a:lnTo>
                    <a:pt x="973" y="499"/>
                  </a:lnTo>
                  <a:lnTo>
                    <a:pt x="960" y="487"/>
                  </a:lnTo>
                  <a:lnTo>
                    <a:pt x="947" y="476"/>
                  </a:lnTo>
                  <a:lnTo>
                    <a:pt x="933" y="465"/>
                  </a:lnTo>
                  <a:lnTo>
                    <a:pt x="918" y="456"/>
                  </a:lnTo>
                  <a:lnTo>
                    <a:pt x="904" y="447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58" y="427"/>
                  </a:lnTo>
                  <a:lnTo>
                    <a:pt x="843" y="422"/>
                  </a:lnTo>
                  <a:lnTo>
                    <a:pt x="826" y="416"/>
                  </a:lnTo>
                  <a:lnTo>
                    <a:pt x="809" y="413"/>
                  </a:lnTo>
                  <a:lnTo>
                    <a:pt x="792" y="410"/>
                  </a:lnTo>
                  <a:lnTo>
                    <a:pt x="775" y="408"/>
                  </a:lnTo>
                  <a:lnTo>
                    <a:pt x="758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378" y="703"/>
                  </a:moveTo>
                  <a:lnTo>
                    <a:pt x="422" y="703"/>
                  </a:lnTo>
                  <a:lnTo>
                    <a:pt x="445" y="702"/>
                  </a:lnTo>
                  <a:lnTo>
                    <a:pt x="466" y="700"/>
                  </a:lnTo>
                  <a:lnTo>
                    <a:pt x="487" y="697"/>
                  </a:lnTo>
                  <a:lnTo>
                    <a:pt x="505" y="692"/>
                  </a:lnTo>
                  <a:lnTo>
                    <a:pt x="522" y="684"/>
                  </a:lnTo>
                  <a:lnTo>
                    <a:pt x="538" y="677"/>
                  </a:lnTo>
                  <a:lnTo>
                    <a:pt x="553" y="667"/>
                  </a:lnTo>
                  <a:lnTo>
                    <a:pt x="567" y="657"/>
                  </a:lnTo>
                  <a:lnTo>
                    <a:pt x="578" y="645"/>
                  </a:lnTo>
                  <a:lnTo>
                    <a:pt x="589" y="631"/>
                  </a:lnTo>
                  <a:lnTo>
                    <a:pt x="597" y="617"/>
                  </a:lnTo>
                  <a:lnTo>
                    <a:pt x="605" y="602"/>
                  </a:lnTo>
                  <a:lnTo>
                    <a:pt x="611" y="585"/>
                  </a:lnTo>
                  <a:lnTo>
                    <a:pt x="615" y="567"/>
                  </a:lnTo>
                  <a:lnTo>
                    <a:pt x="617" y="549"/>
                  </a:lnTo>
                  <a:lnTo>
                    <a:pt x="618" y="529"/>
                  </a:lnTo>
                  <a:lnTo>
                    <a:pt x="617" y="508"/>
                  </a:lnTo>
                  <a:lnTo>
                    <a:pt x="615" y="487"/>
                  </a:lnTo>
                  <a:lnTo>
                    <a:pt x="611" y="469"/>
                  </a:lnTo>
                  <a:lnTo>
                    <a:pt x="605" y="452"/>
                  </a:lnTo>
                  <a:lnTo>
                    <a:pt x="597" y="435"/>
                  </a:lnTo>
                  <a:lnTo>
                    <a:pt x="589" y="421"/>
                  </a:lnTo>
                  <a:lnTo>
                    <a:pt x="579" y="408"/>
                  </a:lnTo>
                  <a:lnTo>
                    <a:pt x="567" y="396"/>
                  </a:lnTo>
                  <a:lnTo>
                    <a:pt x="554" y="384"/>
                  </a:lnTo>
                  <a:lnTo>
                    <a:pt x="538" y="375"/>
                  </a:lnTo>
                  <a:lnTo>
                    <a:pt x="522" y="367"/>
                  </a:lnTo>
                  <a:lnTo>
                    <a:pt x="505" y="361"/>
                  </a:lnTo>
                  <a:lnTo>
                    <a:pt x="486" y="356"/>
                  </a:lnTo>
                  <a:lnTo>
                    <a:pt x="465" y="352"/>
                  </a:lnTo>
                  <a:lnTo>
                    <a:pt x="444" y="350"/>
                  </a:lnTo>
                  <a:lnTo>
                    <a:pt x="420" y="349"/>
                  </a:lnTo>
                  <a:lnTo>
                    <a:pt x="378" y="349"/>
                  </a:lnTo>
                  <a:lnTo>
                    <a:pt x="378" y="703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378" y="687"/>
                  </a:moveTo>
                  <a:lnTo>
                    <a:pt x="414" y="687"/>
                  </a:lnTo>
                  <a:lnTo>
                    <a:pt x="439" y="685"/>
                  </a:lnTo>
                  <a:lnTo>
                    <a:pt x="462" y="683"/>
                  </a:lnTo>
                  <a:lnTo>
                    <a:pt x="484" y="679"/>
                  </a:lnTo>
                  <a:lnTo>
                    <a:pt x="504" y="675"/>
                  </a:lnTo>
                  <a:lnTo>
                    <a:pt x="522" y="668"/>
                  </a:lnTo>
                  <a:lnTo>
                    <a:pt x="540" y="660"/>
                  </a:lnTo>
                  <a:lnTo>
                    <a:pt x="548" y="656"/>
                  </a:lnTo>
                  <a:lnTo>
                    <a:pt x="555" y="651"/>
                  </a:lnTo>
                  <a:lnTo>
                    <a:pt x="562" y="646"/>
                  </a:lnTo>
                  <a:lnTo>
                    <a:pt x="569" y="640"/>
                  </a:lnTo>
                  <a:lnTo>
                    <a:pt x="575" y="634"/>
                  </a:lnTo>
                  <a:lnTo>
                    <a:pt x="581" y="627"/>
                  </a:lnTo>
                  <a:lnTo>
                    <a:pt x="587" y="621"/>
                  </a:lnTo>
                  <a:lnTo>
                    <a:pt x="593" y="614"/>
                  </a:lnTo>
                  <a:lnTo>
                    <a:pt x="598" y="607"/>
                  </a:lnTo>
                  <a:lnTo>
                    <a:pt x="602" y="599"/>
                  </a:lnTo>
                  <a:lnTo>
                    <a:pt x="606" y="592"/>
                  </a:lnTo>
                  <a:lnTo>
                    <a:pt x="610" y="583"/>
                  </a:lnTo>
                  <a:lnTo>
                    <a:pt x="615" y="565"/>
                  </a:lnTo>
                  <a:lnTo>
                    <a:pt x="619" y="547"/>
                  </a:lnTo>
                  <a:lnTo>
                    <a:pt x="622" y="526"/>
                  </a:lnTo>
                  <a:lnTo>
                    <a:pt x="623" y="505"/>
                  </a:lnTo>
                  <a:lnTo>
                    <a:pt x="622" y="482"/>
                  </a:lnTo>
                  <a:lnTo>
                    <a:pt x="619" y="462"/>
                  </a:lnTo>
                  <a:lnTo>
                    <a:pt x="615" y="444"/>
                  </a:lnTo>
                  <a:lnTo>
                    <a:pt x="610" y="425"/>
                  </a:lnTo>
                  <a:lnTo>
                    <a:pt x="603" y="409"/>
                  </a:lnTo>
                  <a:lnTo>
                    <a:pt x="594" y="394"/>
                  </a:lnTo>
                  <a:lnTo>
                    <a:pt x="583" y="380"/>
                  </a:lnTo>
                  <a:lnTo>
                    <a:pt x="571" y="367"/>
                  </a:lnTo>
                  <a:lnTo>
                    <a:pt x="558" y="356"/>
                  </a:lnTo>
                  <a:lnTo>
                    <a:pt x="543" y="347"/>
                  </a:lnTo>
                  <a:lnTo>
                    <a:pt x="526" y="338"/>
                  </a:lnTo>
                  <a:lnTo>
                    <a:pt x="509" y="331"/>
                  </a:lnTo>
                  <a:lnTo>
                    <a:pt x="490" y="326"/>
                  </a:lnTo>
                  <a:lnTo>
                    <a:pt x="469" y="323"/>
                  </a:lnTo>
                  <a:lnTo>
                    <a:pt x="448" y="321"/>
                  </a:lnTo>
                  <a:lnTo>
                    <a:pt x="425" y="320"/>
                  </a:lnTo>
                  <a:lnTo>
                    <a:pt x="378" y="320"/>
                  </a:lnTo>
                  <a:lnTo>
                    <a:pt x="378" y="687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6" y="410"/>
                  </a:lnTo>
                  <a:lnTo>
                    <a:pt x="669" y="412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20" y="426"/>
                  </a:lnTo>
                  <a:lnTo>
                    <a:pt x="604" y="432"/>
                  </a:lnTo>
                  <a:lnTo>
                    <a:pt x="588" y="439"/>
                  </a:lnTo>
                  <a:lnTo>
                    <a:pt x="574" y="447"/>
                  </a:lnTo>
                  <a:lnTo>
                    <a:pt x="559" y="455"/>
                  </a:lnTo>
                  <a:lnTo>
                    <a:pt x="546" y="464"/>
                  </a:lnTo>
                  <a:lnTo>
                    <a:pt x="531" y="474"/>
                  </a:lnTo>
                  <a:lnTo>
                    <a:pt x="518" y="486"/>
                  </a:lnTo>
                  <a:lnTo>
                    <a:pt x="505" y="498"/>
                  </a:lnTo>
                  <a:lnTo>
                    <a:pt x="493" y="510"/>
                  </a:lnTo>
                  <a:lnTo>
                    <a:pt x="481" y="523"/>
                  </a:lnTo>
                  <a:lnTo>
                    <a:pt x="469" y="537"/>
                  </a:lnTo>
                  <a:lnTo>
                    <a:pt x="458" y="551"/>
                  </a:lnTo>
                  <a:lnTo>
                    <a:pt x="449" y="565"/>
                  </a:lnTo>
                  <a:lnTo>
                    <a:pt x="440" y="581"/>
                  </a:lnTo>
                  <a:lnTo>
                    <a:pt x="432" y="596"/>
                  </a:lnTo>
                  <a:lnTo>
                    <a:pt x="425" y="611"/>
                  </a:lnTo>
                  <a:lnTo>
                    <a:pt x="418" y="628"/>
                  </a:lnTo>
                  <a:lnTo>
                    <a:pt x="411" y="644"/>
                  </a:lnTo>
                  <a:lnTo>
                    <a:pt x="407" y="660"/>
                  </a:lnTo>
                  <a:lnTo>
                    <a:pt x="402" y="678"/>
                  </a:lnTo>
                  <a:lnTo>
                    <a:pt x="399" y="695"/>
                  </a:lnTo>
                  <a:lnTo>
                    <a:pt x="396" y="712"/>
                  </a:lnTo>
                  <a:lnTo>
                    <a:pt x="394" y="731"/>
                  </a:lnTo>
                  <a:lnTo>
                    <a:pt x="393" y="749"/>
                  </a:lnTo>
                  <a:lnTo>
                    <a:pt x="393" y="768"/>
                  </a:lnTo>
                  <a:lnTo>
                    <a:pt x="393" y="788"/>
                  </a:lnTo>
                  <a:lnTo>
                    <a:pt x="394" y="806"/>
                  </a:lnTo>
                  <a:lnTo>
                    <a:pt x="396" y="825"/>
                  </a:lnTo>
                  <a:lnTo>
                    <a:pt x="399" y="842"/>
                  </a:lnTo>
                  <a:lnTo>
                    <a:pt x="402" y="859"/>
                  </a:lnTo>
                  <a:lnTo>
                    <a:pt x="406" y="877"/>
                  </a:lnTo>
                  <a:lnTo>
                    <a:pt x="411" y="894"/>
                  </a:lnTo>
                  <a:lnTo>
                    <a:pt x="418" y="909"/>
                  </a:lnTo>
                  <a:lnTo>
                    <a:pt x="425" y="926"/>
                  </a:lnTo>
                  <a:lnTo>
                    <a:pt x="432" y="941"/>
                  </a:lnTo>
                  <a:lnTo>
                    <a:pt x="440" y="956"/>
                  </a:lnTo>
                  <a:lnTo>
                    <a:pt x="449" y="970"/>
                  </a:lnTo>
                  <a:lnTo>
                    <a:pt x="458" y="986"/>
                  </a:lnTo>
                  <a:lnTo>
                    <a:pt x="468" y="999"/>
                  </a:lnTo>
                  <a:lnTo>
                    <a:pt x="480" y="1012"/>
                  </a:lnTo>
                  <a:lnTo>
                    <a:pt x="492" y="1026"/>
                  </a:lnTo>
                  <a:lnTo>
                    <a:pt x="505" y="1039"/>
                  </a:lnTo>
                  <a:lnTo>
                    <a:pt x="517" y="1050"/>
                  </a:lnTo>
                  <a:lnTo>
                    <a:pt x="530" y="1061"/>
                  </a:lnTo>
                  <a:lnTo>
                    <a:pt x="545" y="1072"/>
                  </a:lnTo>
                  <a:lnTo>
                    <a:pt x="559" y="1081"/>
                  </a:lnTo>
                  <a:lnTo>
                    <a:pt x="573" y="1089"/>
                  </a:lnTo>
                  <a:lnTo>
                    <a:pt x="588" y="1097"/>
                  </a:lnTo>
                  <a:lnTo>
                    <a:pt x="604" y="1104"/>
                  </a:lnTo>
                  <a:lnTo>
                    <a:pt x="619" y="1110"/>
                  </a:lnTo>
                  <a:lnTo>
                    <a:pt x="635" y="1115"/>
                  </a:lnTo>
                  <a:lnTo>
                    <a:pt x="652" y="1119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7" y="1130"/>
                  </a:lnTo>
                  <a:lnTo>
                    <a:pt x="776" y="1129"/>
                  </a:lnTo>
                  <a:lnTo>
                    <a:pt x="793" y="1127"/>
                  </a:lnTo>
                  <a:lnTo>
                    <a:pt x="810" y="1124"/>
                  </a:lnTo>
                  <a:lnTo>
                    <a:pt x="827" y="1119"/>
                  </a:lnTo>
                  <a:lnTo>
                    <a:pt x="843" y="1115"/>
                  </a:lnTo>
                  <a:lnTo>
                    <a:pt x="859" y="1110"/>
                  </a:lnTo>
                  <a:lnTo>
                    <a:pt x="874" y="1104"/>
                  </a:lnTo>
                  <a:lnTo>
                    <a:pt x="890" y="1097"/>
                  </a:lnTo>
                  <a:lnTo>
                    <a:pt x="905" y="1089"/>
                  </a:lnTo>
                  <a:lnTo>
                    <a:pt x="919" y="1081"/>
                  </a:lnTo>
                  <a:lnTo>
                    <a:pt x="933" y="1072"/>
                  </a:lnTo>
                  <a:lnTo>
                    <a:pt x="948" y="1061"/>
                  </a:lnTo>
                  <a:lnTo>
                    <a:pt x="961" y="1050"/>
                  </a:lnTo>
                  <a:lnTo>
                    <a:pt x="974" y="1038"/>
                  </a:lnTo>
                  <a:lnTo>
                    <a:pt x="986" y="1026"/>
                  </a:lnTo>
                  <a:lnTo>
                    <a:pt x="999" y="1012"/>
                  </a:lnTo>
                  <a:lnTo>
                    <a:pt x="1010" y="999"/>
                  </a:lnTo>
                  <a:lnTo>
                    <a:pt x="1020" y="985"/>
                  </a:lnTo>
                  <a:lnTo>
                    <a:pt x="1030" y="970"/>
                  </a:lnTo>
                  <a:lnTo>
                    <a:pt x="1039" y="956"/>
                  </a:lnTo>
                  <a:lnTo>
                    <a:pt x="1047" y="941"/>
                  </a:lnTo>
                  <a:lnTo>
                    <a:pt x="1055" y="926"/>
                  </a:lnTo>
                  <a:lnTo>
                    <a:pt x="1061" y="909"/>
                  </a:lnTo>
                  <a:lnTo>
                    <a:pt x="1067" y="893"/>
                  </a:lnTo>
                  <a:lnTo>
                    <a:pt x="1072" y="877"/>
                  </a:lnTo>
                  <a:lnTo>
                    <a:pt x="1076" y="859"/>
                  </a:lnTo>
                  <a:lnTo>
                    <a:pt x="1080" y="842"/>
                  </a:lnTo>
                  <a:lnTo>
                    <a:pt x="1082" y="823"/>
                  </a:lnTo>
                  <a:lnTo>
                    <a:pt x="1084" y="806"/>
                  </a:lnTo>
                  <a:lnTo>
                    <a:pt x="1086" y="787"/>
                  </a:lnTo>
                  <a:lnTo>
                    <a:pt x="1086" y="768"/>
                  </a:lnTo>
                  <a:lnTo>
                    <a:pt x="1086" y="749"/>
                  </a:lnTo>
                  <a:lnTo>
                    <a:pt x="1084" y="731"/>
                  </a:lnTo>
                  <a:lnTo>
                    <a:pt x="1082" y="713"/>
                  </a:lnTo>
                  <a:lnTo>
                    <a:pt x="1080" y="695"/>
                  </a:lnTo>
                  <a:lnTo>
                    <a:pt x="1076" y="678"/>
                  </a:lnTo>
                  <a:lnTo>
                    <a:pt x="1072" y="661"/>
                  </a:lnTo>
                  <a:lnTo>
                    <a:pt x="1067" y="644"/>
                  </a:lnTo>
                  <a:lnTo>
                    <a:pt x="1061" y="628"/>
                  </a:lnTo>
                  <a:lnTo>
                    <a:pt x="1055" y="612"/>
                  </a:lnTo>
                  <a:lnTo>
                    <a:pt x="1047" y="596"/>
                  </a:lnTo>
                  <a:lnTo>
                    <a:pt x="1039" y="582"/>
                  </a:lnTo>
                  <a:lnTo>
                    <a:pt x="1030" y="566"/>
                  </a:lnTo>
                  <a:lnTo>
                    <a:pt x="1020" y="552"/>
                  </a:lnTo>
                  <a:lnTo>
                    <a:pt x="1010" y="538"/>
                  </a:lnTo>
                  <a:lnTo>
                    <a:pt x="999" y="524"/>
                  </a:lnTo>
                  <a:lnTo>
                    <a:pt x="986" y="511"/>
                  </a:lnTo>
                  <a:lnTo>
                    <a:pt x="974" y="498"/>
                  </a:lnTo>
                  <a:lnTo>
                    <a:pt x="961" y="487"/>
                  </a:lnTo>
                  <a:lnTo>
                    <a:pt x="948" y="475"/>
                  </a:lnTo>
                  <a:lnTo>
                    <a:pt x="933" y="465"/>
                  </a:lnTo>
                  <a:lnTo>
                    <a:pt x="919" y="456"/>
                  </a:lnTo>
                  <a:lnTo>
                    <a:pt x="905" y="447"/>
                  </a:lnTo>
                  <a:lnTo>
                    <a:pt x="890" y="440"/>
                  </a:lnTo>
                  <a:lnTo>
                    <a:pt x="874" y="433"/>
                  </a:lnTo>
                  <a:lnTo>
                    <a:pt x="859" y="426"/>
                  </a:lnTo>
                  <a:lnTo>
                    <a:pt x="843" y="420"/>
                  </a:lnTo>
                  <a:lnTo>
                    <a:pt x="827" y="416"/>
                  </a:lnTo>
                  <a:lnTo>
                    <a:pt x="810" y="412"/>
                  </a:lnTo>
                  <a:lnTo>
                    <a:pt x="793" y="410"/>
                  </a:lnTo>
                  <a:lnTo>
                    <a:pt x="776" y="408"/>
                  </a:lnTo>
                  <a:lnTo>
                    <a:pt x="757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838080"/>
              <a:ext cx="95400" cy="155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0" y="493"/>
                  </a:moveTo>
                  <a:lnTo>
                    <a:pt x="299" y="493"/>
                  </a:lnTo>
                  <a:lnTo>
                    <a:pt x="149" y="0"/>
                  </a:lnTo>
                  <a:lnTo>
                    <a:pt x="0" y="4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7320" y="814320"/>
              <a:ext cx="220680" cy="2304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7" y="0"/>
                  </a:moveTo>
                  <a:lnTo>
                    <a:pt x="329" y="0"/>
                  </a:lnTo>
                  <a:lnTo>
                    <a:pt x="311" y="2"/>
                  </a:lnTo>
                  <a:lnTo>
                    <a:pt x="293" y="4"/>
                  </a:lnTo>
                  <a:lnTo>
                    <a:pt x="276" y="7"/>
                  </a:lnTo>
                  <a:lnTo>
                    <a:pt x="260" y="10"/>
                  </a:lnTo>
                  <a:lnTo>
                    <a:pt x="243" y="14"/>
                  </a:lnTo>
                  <a:lnTo>
                    <a:pt x="227" y="21"/>
                  </a:lnTo>
                  <a:lnTo>
                    <a:pt x="212" y="27"/>
                  </a:lnTo>
                  <a:lnTo>
                    <a:pt x="197" y="33"/>
                  </a:lnTo>
                  <a:lnTo>
                    <a:pt x="181" y="41"/>
                  </a:lnTo>
                  <a:lnTo>
                    <a:pt x="167" y="49"/>
                  </a:lnTo>
                  <a:lnTo>
                    <a:pt x="153" y="59"/>
                  </a:lnTo>
                  <a:lnTo>
                    <a:pt x="139" y="70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8"/>
                  </a:lnTo>
                  <a:lnTo>
                    <a:pt x="77" y="132"/>
                  </a:lnTo>
                  <a:lnTo>
                    <a:pt x="66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6" y="222"/>
                  </a:lnTo>
                  <a:lnTo>
                    <a:pt x="20" y="238"/>
                  </a:lnTo>
                  <a:lnTo>
                    <a:pt x="14" y="254"/>
                  </a:lnTo>
                  <a:lnTo>
                    <a:pt x="10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2" y="325"/>
                  </a:lnTo>
                  <a:lnTo>
                    <a:pt x="0" y="344"/>
                  </a:lnTo>
                  <a:lnTo>
                    <a:pt x="0" y="363"/>
                  </a:lnTo>
                  <a:lnTo>
                    <a:pt x="0" y="382"/>
                  </a:lnTo>
                  <a:lnTo>
                    <a:pt x="2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4"/>
                  </a:lnTo>
                  <a:lnTo>
                    <a:pt x="14" y="471"/>
                  </a:lnTo>
                  <a:lnTo>
                    <a:pt x="20" y="488"/>
                  </a:lnTo>
                  <a:lnTo>
                    <a:pt x="25" y="504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6"/>
                  </a:lnTo>
                  <a:lnTo>
                    <a:pt x="65" y="580"/>
                  </a:lnTo>
                  <a:lnTo>
                    <a:pt x="77" y="593"/>
                  </a:lnTo>
                  <a:lnTo>
                    <a:pt x="88" y="607"/>
                  </a:lnTo>
                  <a:lnTo>
                    <a:pt x="100" y="620"/>
                  </a:lnTo>
                  <a:lnTo>
                    <a:pt x="112" y="633"/>
                  </a:lnTo>
                  <a:lnTo>
                    <a:pt x="125" y="644"/>
                  </a:lnTo>
                  <a:lnTo>
                    <a:pt x="139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4"/>
                  </a:lnTo>
                  <a:lnTo>
                    <a:pt x="196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10"/>
                  </a:lnTo>
                  <a:lnTo>
                    <a:pt x="259" y="714"/>
                  </a:lnTo>
                  <a:lnTo>
                    <a:pt x="276" y="718"/>
                  </a:lnTo>
                  <a:lnTo>
                    <a:pt x="293" y="721"/>
                  </a:lnTo>
                  <a:lnTo>
                    <a:pt x="311" y="723"/>
                  </a:lnTo>
                  <a:lnTo>
                    <a:pt x="329" y="724"/>
                  </a:lnTo>
                  <a:lnTo>
                    <a:pt x="347" y="724"/>
                  </a:lnTo>
                  <a:lnTo>
                    <a:pt x="366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4"/>
                  </a:lnTo>
                  <a:lnTo>
                    <a:pt x="451" y="710"/>
                  </a:lnTo>
                  <a:lnTo>
                    <a:pt x="466" y="704"/>
                  </a:lnTo>
                  <a:lnTo>
                    <a:pt x="483" y="698"/>
                  </a:lnTo>
                  <a:lnTo>
                    <a:pt x="498" y="691"/>
                  </a:lnTo>
                  <a:lnTo>
                    <a:pt x="512" y="684"/>
                  </a:lnTo>
                  <a:lnTo>
                    <a:pt x="526" y="675"/>
                  </a:lnTo>
                  <a:lnTo>
                    <a:pt x="541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3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8" y="579"/>
                  </a:lnTo>
                  <a:lnTo>
                    <a:pt x="637" y="565"/>
                  </a:lnTo>
                  <a:lnTo>
                    <a:pt x="646" y="550"/>
                  </a:lnTo>
                  <a:lnTo>
                    <a:pt x="655" y="535"/>
                  </a:lnTo>
                  <a:lnTo>
                    <a:pt x="662" y="520"/>
                  </a:lnTo>
                  <a:lnTo>
                    <a:pt x="669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4" y="453"/>
                  </a:lnTo>
                  <a:lnTo>
                    <a:pt x="687" y="436"/>
                  </a:lnTo>
                  <a:lnTo>
                    <a:pt x="690" y="419"/>
                  </a:lnTo>
                  <a:lnTo>
                    <a:pt x="692" y="400"/>
                  </a:lnTo>
                  <a:lnTo>
                    <a:pt x="693" y="382"/>
                  </a:lnTo>
                  <a:lnTo>
                    <a:pt x="693" y="363"/>
                  </a:lnTo>
                  <a:lnTo>
                    <a:pt x="693" y="344"/>
                  </a:lnTo>
                  <a:lnTo>
                    <a:pt x="692" y="326"/>
                  </a:lnTo>
                  <a:lnTo>
                    <a:pt x="690" y="307"/>
                  </a:lnTo>
                  <a:lnTo>
                    <a:pt x="687" y="289"/>
                  </a:lnTo>
                  <a:lnTo>
                    <a:pt x="684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9" y="222"/>
                  </a:lnTo>
                  <a:lnTo>
                    <a:pt x="662" y="206"/>
                  </a:lnTo>
                  <a:lnTo>
                    <a:pt x="655" y="191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8" y="146"/>
                  </a:lnTo>
                  <a:lnTo>
                    <a:pt x="617" y="132"/>
                  </a:lnTo>
                  <a:lnTo>
                    <a:pt x="606" y="119"/>
                  </a:lnTo>
                  <a:lnTo>
                    <a:pt x="593" y="105"/>
                  </a:lnTo>
                  <a:lnTo>
                    <a:pt x="581" y="93"/>
                  </a:lnTo>
                  <a:lnTo>
                    <a:pt x="568" y="81"/>
                  </a:lnTo>
                  <a:lnTo>
                    <a:pt x="555" y="70"/>
                  </a:lnTo>
                  <a:lnTo>
                    <a:pt x="541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8" y="34"/>
                  </a:lnTo>
                  <a:lnTo>
                    <a:pt x="483" y="27"/>
                  </a:lnTo>
                  <a:lnTo>
                    <a:pt x="466" y="21"/>
                  </a:lnTo>
                  <a:lnTo>
                    <a:pt x="451" y="16"/>
                  </a:lnTo>
                  <a:lnTo>
                    <a:pt x="434" y="10"/>
                  </a:lnTo>
                  <a:lnTo>
                    <a:pt x="417" y="7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0" y="1434960"/>
              <a:ext cx="76320" cy="11268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0" y="354"/>
                  </a:moveTo>
                  <a:lnTo>
                    <a:pt x="44" y="354"/>
                  </a:lnTo>
                  <a:lnTo>
                    <a:pt x="67" y="353"/>
                  </a:lnTo>
                  <a:lnTo>
                    <a:pt x="88" y="351"/>
                  </a:lnTo>
                  <a:lnTo>
                    <a:pt x="109" y="348"/>
                  </a:lnTo>
                  <a:lnTo>
                    <a:pt x="127" y="343"/>
                  </a:lnTo>
                  <a:lnTo>
                    <a:pt x="144" y="335"/>
                  </a:lnTo>
                  <a:lnTo>
                    <a:pt x="160" y="328"/>
                  </a:lnTo>
                  <a:lnTo>
                    <a:pt x="175" y="318"/>
                  </a:lnTo>
                  <a:lnTo>
                    <a:pt x="189" y="308"/>
                  </a:lnTo>
                  <a:lnTo>
                    <a:pt x="200" y="296"/>
                  </a:lnTo>
                  <a:lnTo>
                    <a:pt x="211" y="282"/>
                  </a:lnTo>
                  <a:lnTo>
                    <a:pt x="219" y="268"/>
                  </a:lnTo>
                  <a:lnTo>
                    <a:pt x="227" y="253"/>
                  </a:lnTo>
                  <a:lnTo>
                    <a:pt x="233" y="236"/>
                  </a:lnTo>
                  <a:lnTo>
                    <a:pt x="237" y="218"/>
                  </a:lnTo>
                  <a:lnTo>
                    <a:pt x="239" y="200"/>
                  </a:lnTo>
                  <a:lnTo>
                    <a:pt x="240" y="180"/>
                  </a:lnTo>
                  <a:lnTo>
                    <a:pt x="239" y="159"/>
                  </a:lnTo>
                  <a:lnTo>
                    <a:pt x="237" y="138"/>
                  </a:lnTo>
                  <a:lnTo>
                    <a:pt x="233" y="120"/>
                  </a:lnTo>
                  <a:lnTo>
                    <a:pt x="227" y="103"/>
                  </a:lnTo>
                  <a:lnTo>
                    <a:pt x="219" y="86"/>
                  </a:lnTo>
                  <a:lnTo>
                    <a:pt x="211" y="72"/>
                  </a:lnTo>
                  <a:lnTo>
                    <a:pt x="201" y="59"/>
                  </a:lnTo>
                  <a:lnTo>
                    <a:pt x="189" y="47"/>
                  </a:lnTo>
                  <a:lnTo>
                    <a:pt x="176" y="35"/>
                  </a:lnTo>
                  <a:lnTo>
                    <a:pt x="160" y="26"/>
                  </a:lnTo>
                  <a:lnTo>
                    <a:pt x="144" y="18"/>
                  </a:lnTo>
                  <a:lnTo>
                    <a:pt x="127" y="12"/>
                  </a:lnTo>
                  <a:lnTo>
                    <a:pt x="108" y="7"/>
                  </a:lnTo>
                  <a:lnTo>
                    <a:pt x="87" y="3"/>
                  </a:lnTo>
                  <a:lnTo>
                    <a:pt x="66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7680" y="1425600"/>
              <a:ext cx="77760" cy="117360"/>
            </a:xfrm>
            <a:custGeom>
              <a:avLst/>
              <a:gdLst/>
              <a:ahLst/>
              <a:rect l="l" t="t" r="r" b="b"/>
              <a:pathLst>
                <a:path w="245" h="367">
                  <a:moveTo>
                    <a:pt x="0" y="367"/>
                  </a:moveTo>
                  <a:lnTo>
                    <a:pt x="36" y="367"/>
                  </a:lnTo>
                  <a:lnTo>
                    <a:pt x="61" y="365"/>
                  </a:lnTo>
                  <a:lnTo>
                    <a:pt x="84" y="363"/>
                  </a:lnTo>
                  <a:lnTo>
                    <a:pt x="106" y="359"/>
                  </a:lnTo>
                  <a:lnTo>
                    <a:pt x="126" y="355"/>
                  </a:lnTo>
                  <a:lnTo>
                    <a:pt x="144" y="348"/>
                  </a:lnTo>
                  <a:lnTo>
                    <a:pt x="162" y="340"/>
                  </a:lnTo>
                  <a:lnTo>
                    <a:pt x="170" y="336"/>
                  </a:lnTo>
                  <a:lnTo>
                    <a:pt x="177" y="331"/>
                  </a:lnTo>
                  <a:lnTo>
                    <a:pt x="184" y="326"/>
                  </a:lnTo>
                  <a:lnTo>
                    <a:pt x="191" y="320"/>
                  </a:lnTo>
                  <a:lnTo>
                    <a:pt x="197" y="314"/>
                  </a:lnTo>
                  <a:lnTo>
                    <a:pt x="203" y="307"/>
                  </a:lnTo>
                  <a:lnTo>
                    <a:pt x="209" y="301"/>
                  </a:lnTo>
                  <a:lnTo>
                    <a:pt x="215" y="294"/>
                  </a:lnTo>
                  <a:lnTo>
                    <a:pt x="220" y="287"/>
                  </a:lnTo>
                  <a:lnTo>
                    <a:pt x="224" y="279"/>
                  </a:lnTo>
                  <a:lnTo>
                    <a:pt x="228" y="272"/>
                  </a:lnTo>
                  <a:lnTo>
                    <a:pt x="232" y="263"/>
                  </a:lnTo>
                  <a:lnTo>
                    <a:pt x="237" y="245"/>
                  </a:lnTo>
                  <a:lnTo>
                    <a:pt x="241" y="227"/>
                  </a:lnTo>
                  <a:lnTo>
                    <a:pt x="244" y="206"/>
                  </a:lnTo>
                  <a:lnTo>
                    <a:pt x="245" y="185"/>
                  </a:lnTo>
                  <a:lnTo>
                    <a:pt x="244" y="162"/>
                  </a:lnTo>
                  <a:lnTo>
                    <a:pt x="241" y="142"/>
                  </a:lnTo>
                  <a:lnTo>
                    <a:pt x="237" y="124"/>
                  </a:lnTo>
                  <a:lnTo>
                    <a:pt x="232" y="105"/>
                  </a:lnTo>
                  <a:lnTo>
                    <a:pt x="225" y="89"/>
                  </a:lnTo>
                  <a:lnTo>
                    <a:pt x="216" y="74"/>
                  </a:lnTo>
                  <a:lnTo>
                    <a:pt x="205" y="60"/>
                  </a:lnTo>
                  <a:lnTo>
                    <a:pt x="193" y="47"/>
                  </a:lnTo>
                  <a:lnTo>
                    <a:pt x="180" y="36"/>
                  </a:lnTo>
                  <a:lnTo>
                    <a:pt x="165" y="27"/>
                  </a:lnTo>
                  <a:lnTo>
                    <a:pt x="148" y="18"/>
                  </a:lnTo>
                  <a:lnTo>
                    <a:pt x="131" y="11"/>
                  </a:lnTo>
                  <a:lnTo>
                    <a:pt x="112" y="6"/>
                  </a:lnTo>
                  <a:lnTo>
                    <a:pt x="91" y="3"/>
                  </a:lnTo>
                  <a:lnTo>
                    <a:pt x="70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3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5320" y="1441440"/>
              <a:ext cx="218880" cy="2286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6" y="0"/>
                  </a:moveTo>
                  <a:lnTo>
                    <a:pt x="328" y="0"/>
                  </a:lnTo>
                  <a:lnTo>
                    <a:pt x="310" y="2"/>
                  </a:lnTo>
                  <a:lnTo>
                    <a:pt x="293" y="4"/>
                  </a:lnTo>
                  <a:lnTo>
                    <a:pt x="276" y="6"/>
                  </a:lnTo>
                  <a:lnTo>
                    <a:pt x="259" y="10"/>
                  </a:lnTo>
                  <a:lnTo>
                    <a:pt x="242" y="14"/>
                  </a:lnTo>
                  <a:lnTo>
                    <a:pt x="227" y="20"/>
                  </a:lnTo>
                  <a:lnTo>
                    <a:pt x="211" y="26"/>
                  </a:lnTo>
                  <a:lnTo>
                    <a:pt x="195" y="33"/>
                  </a:lnTo>
                  <a:lnTo>
                    <a:pt x="181" y="41"/>
                  </a:lnTo>
                  <a:lnTo>
                    <a:pt x="166" y="49"/>
                  </a:lnTo>
                  <a:lnTo>
                    <a:pt x="153" y="58"/>
                  </a:lnTo>
                  <a:lnTo>
                    <a:pt x="138" y="68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7"/>
                  </a:lnTo>
                  <a:lnTo>
                    <a:pt x="76" y="131"/>
                  </a:lnTo>
                  <a:lnTo>
                    <a:pt x="65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5" y="222"/>
                  </a:lnTo>
                  <a:lnTo>
                    <a:pt x="18" y="238"/>
                  </a:lnTo>
                  <a:lnTo>
                    <a:pt x="14" y="254"/>
                  </a:lnTo>
                  <a:lnTo>
                    <a:pt x="9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1" y="325"/>
                  </a:lnTo>
                  <a:lnTo>
                    <a:pt x="0" y="343"/>
                  </a:lnTo>
                  <a:lnTo>
                    <a:pt x="0" y="362"/>
                  </a:lnTo>
                  <a:lnTo>
                    <a:pt x="0" y="382"/>
                  </a:lnTo>
                  <a:lnTo>
                    <a:pt x="1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3"/>
                  </a:lnTo>
                  <a:lnTo>
                    <a:pt x="13" y="471"/>
                  </a:lnTo>
                  <a:lnTo>
                    <a:pt x="18" y="488"/>
                  </a:lnTo>
                  <a:lnTo>
                    <a:pt x="25" y="503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4"/>
                  </a:lnTo>
                  <a:lnTo>
                    <a:pt x="65" y="580"/>
                  </a:lnTo>
                  <a:lnTo>
                    <a:pt x="75" y="593"/>
                  </a:lnTo>
                  <a:lnTo>
                    <a:pt x="87" y="606"/>
                  </a:lnTo>
                  <a:lnTo>
                    <a:pt x="99" y="620"/>
                  </a:lnTo>
                  <a:lnTo>
                    <a:pt x="112" y="633"/>
                  </a:lnTo>
                  <a:lnTo>
                    <a:pt x="124" y="644"/>
                  </a:lnTo>
                  <a:lnTo>
                    <a:pt x="137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3"/>
                  </a:lnTo>
                  <a:lnTo>
                    <a:pt x="195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09"/>
                  </a:lnTo>
                  <a:lnTo>
                    <a:pt x="259" y="713"/>
                  </a:lnTo>
                  <a:lnTo>
                    <a:pt x="275" y="718"/>
                  </a:lnTo>
                  <a:lnTo>
                    <a:pt x="292" y="721"/>
                  </a:lnTo>
                  <a:lnTo>
                    <a:pt x="310" y="723"/>
                  </a:lnTo>
                  <a:lnTo>
                    <a:pt x="328" y="724"/>
                  </a:lnTo>
                  <a:lnTo>
                    <a:pt x="346" y="724"/>
                  </a:lnTo>
                  <a:lnTo>
                    <a:pt x="364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3"/>
                  </a:lnTo>
                  <a:lnTo>
                    <a:pt x="450" y="709"/>
                  </a:lnTo>
                  <a:lnTo>
                    <a:pt x="466" y="704"/>
                  </a:lnTo>
                  <a:lnTo>
                    <a:pt x="481" y="698"/>
                  </a:lnTo>
                  <a:lnTo>
                    <a:pt x="497" y="691"/>
                  </a:lnTo>
                  <a:lnTo>
                    <a:pt x="512" y="683"/>
                  </a:lnTo>
                  <a:lnTo>
                    <a:pt x="526" y="675"/>
                  </a:lnTo>
                  <a:lnTo>
                    <a:pt x="540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2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7" y="579"/>
                  </a:lnTo>
                  <a:lnTo>
                    <a:pt x="637" y="564"/>
                  </a:lnTo>
                  <a:lnTo>
                    <a:pt x="646" y="550"/>
                  </a:lnTo>
                  <a:lnTo>
                    <a:pt x="654" y="535"/>
                  </a:lnTo>
                  <a:lnTo>
                    <a:pt x="662" y="520"/>
                  </a:lnTo>
                  <a:lnTo>
                    <a:pt x="668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3" y="453"/>
                  </a:lnTo>
                  <a:lnTo>
                    <a:pt x="687" y="436"/>
                  </a:lnTo>
                  <a:lnTo>
                    <a:pt x="689" y="417"/>
                  </a:lnTo>
                  <a:lnTo>
                    <a:pt x="691" y="400"/>
                  </a:lnTo>
                  <a:lnTo>
                    <a:pt x="693" y="381"/>
                  </a:lnTo>
                  <a:lnTo>
                    <a:pt x="693" y="362"/>
                  </a:lnTo>
                  <a:lnTo>
                    <a:pt x="693" y="343"/>
                  </a:lnTo>
                  <a:lnTo>
                    <a:pt x="691" y="325"/>
                  </a:lnTo>
                  <a:lnTo>
                    <a:pt x="689" y="307"/>
                  </a:lnTo>
                  <a:lnTo>
                    <a:pt x="687" y="289"/>
                  </a:lnTo>
                  <a:lnTo>
                    <a:pt x="683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8" y="222"/>
                  </a:lnTo>
                  <a:lnTo>
                    <a:pt x="662" y="206"/>
                  </a:lnTo>
                  <a:lnTo>
                    <a:pt x="654" y="190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7" y="146"/>
                  </a:lnTo>
                  <a:lnTo>
                    <a:pt x="617" y="132"/>
                  </a:lnTo>
                  <a:lnTo>
                    <a:pt x="606" y="118"/>
                  </a:lnTo>
                  <a:lnTo>
                    <a:pt x="593" y="105"/>
                  </a:lnTo>
                  <a:lnTo>
                    <a:pt x="581" y="92"/>
                  </a:lnTo>
                  <a:lnTo>
                    <a:pt x="568" y="81"/>
                  </a:lnTo>
                  <a:lnTo>
                    <a:pt x="555" y="69"/>
                  </a:lnTo>
                  <a:lnTo>
                    <a:pt x="540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7" y="34"/>
                  </a:lnTo>
                  <a:lnTo>
                    <a:pt x="481" y="27"/>
                  </a:lnTo>
                  <a:lnTo>
                    <a:pt x="466" y="20"/>
                  </a:lnTo>
                  <a:lnTo>
                    <a:pt x="450" y="14"/>
                  </a:lnTo>
                  <a:lnTo>
                    <a:pt x="434" y="10"/>
                  </a:lnTo>
                  <a:lnTo>
                    <a:pt x="417" y="6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4" y="0"/>
                  </a:ln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53560" y="2286000"/>
            <a:ext cx="3100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1: Awak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6480" y="2914560"/>
            <a:ext cx="330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2: Denial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9240" y="3544920"/>
            <a:ext cx="406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3: Agg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9400" y="4175280"/>
            <a:ext cx="41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4: Negotiat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56360" y="4805280"/>
            <a:ext cx="407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5: Dep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02800" y="5435640"/>
            <a:ext cx="409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6: Acceptance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7:14Z</dcterms:modified>
  <cp:revision>172</cp:revision>
  <dc:subject/>
  <dc:title>No Slide Title</dc:title>
</cp:coreProperties>
</file>